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450-1401-43D8-B763-CDBB4110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C5B-F0B8-44AA-8DC2-A96628B5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6F6-D513-43C6-AB79-961A341D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41C-00B6-4FF8-8D48-713E03B0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B88-FF56-4784-94AF-A40CB0E3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17C-5F19-41D6-AC76-34489D98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474-9731-4F0B-BEEA-A3E50B3A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D65-DB39-405E-8EE6-68BD782D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648-7FB9-4F06-B779-554BF05B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F83-19D1-4047-B539-10A936B3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635-F1D6-4D87-B559-65F783B4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CDF-5A75-4FB8-BBD8-E46A68D6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4C9E-ACD6-49D0-B02C-C925C6CD40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397160"/>
          <a:ext cx="8893080" cy="495108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29638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закон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убъектов Российской Федерации, нормативных правовых актов местного самоуправления, устанавливающих особенности переходного периода в субъекте Федерации (муниципалитете)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у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 финансового обеспечения бюджетных учреждений (бюджетная смета или субсидия на выполнение государственного задани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и направления  использования учреждениями доходов от платных услуг и иной приносящей доход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308240"/>
          <a:ext cx="9036000" cy="554976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31068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нормативных правовых актов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илу которых создаются казенные учрежд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утем изменения типа бюджетных учреждений, действовавших на дату принятия указанных нормативных правовых актов, с указанием в них перечня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ней недвижимого имущест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 учреждений, закрепленного за ними учредителем или приобретенным за счет средств, выделенных учредителем на эти цели, в целях расчета субси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января 201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решений об отнесении движимого имущества БУ к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о ценному движимому имуще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марта 2011 г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с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й в устав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 и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1 год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773360"/>
          <a:ext cx="9144000" cy="911160"/>
        </p:xfrm>
        <a:graphic>
          <a:graphicData uri="http://schemas.openxmlformats.org/drawingml/2006/table">
            <a:tbl>
              <a:tblPr/>
              <a:tblGrid>
                <a:gridCol w="545040"/>
                <a:gridCol w="1055520"/>
                <a:gridCol w="4426200"/>
                <a:gridCol w="3117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базового зак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рмативного правового акта требующего раз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, выпускающий 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0" y="2708280"/>
          <a:ext cx="9144000" cy="2922480"/>
        </p:xfrm>
        <a:graphic>
          <a:graphicData uri="http://schemas.openxmlformats.org/drawingml/2006/table">
            <a:tbl>
              <a:tblPr/>
              <a:tblGrid>
                <a:gridCol w="539640"/>
                <a:gridCol w="1068480"/>
                <a:gridCol w="4403880"/>
                <a:gridCol w="3132000"/>
              </a:tblGrid>
              <a:tr h="192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 «б» п. 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14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.1 ст. 16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7.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18 и ст. 1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5 ФЗ №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5 ст. 31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здания, реорганизации, изменения типа и ликвидации государственных учреждений субъектов Российской Федерации (муниципальных учреждений), а также утверждения уставов государственных учреждений субъекта Российской Федерации (муниципальных учреждений) и внесения в них изме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платы за оказание бюджетным учреждением субъектов  Российской Федерации (муниципальным учреждением) услуг (выполнение работ), относящихся к основным видам деятельности бюджетного учреждения, для граждан и юрид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40" y="1833480"/>
          <a:ext cx="9142560" cy="3900240"/>
        </p:xfrm>
        <a:graphic>
          <a:graphicData uri="http://schemas.openxmlformats.org/drawingml/2006/table">
            <a:tbl>
              <a:tblPr/>
              <a:tblGrid>
                <a:gridCol w="317520"/>
                <a:gridCol w="1344600"/>
                <a:gridCol w="4540320"/>
                <a:gridCol w="2940120"/>
              </a:tblGrid>
              <a:tr h="14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5 и 6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осуществления бюджетными учреждениями полномочий органа государственной власти субъекта Российской Федерации, органа местного самоуправления по исполнению публичных обязательств перед физическим лицом, подлежащих исполнению в денежной форме и определение порядка финансового обеспечения их осущест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7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условий и порядка формирования государственного задания и порядок финансового обеспечения выполнения этого задания бюджетными учреждениями субъектов Российской Федерации (муниципальными бюджетными учреждени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1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 ст. 3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видов особо ценного движимого имущества, в отношении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0" y="1628640"/>
          <a:ext cx="9142560" cy="3024360"/>
        </p:xfrm>
        <a:graphic>
          <a:graphicData uri="http://schemas.openxmlformats.org/drawingml/2006/table">
            <a:tbl>
              <a:tblPr/>
              <a:tblGrid>
                <a:gridCol w="393840"/>
                <a:gridCol w="1268280"/>
                <a:gridCol w="4540320"/>
                <a:gridCol w="2940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2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еречня особо ценного движимого имущества бюджетного учреждения субъектов Российской Федерации (муниципального бюджетного учре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и утверждения плана финансово-хозяйственной деятельности учреждений субъектов Российской Федерации (муниципаль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 и утверждения Отчета о результатах деятельности муниципального учреждения и об использовании закрепленного за ним муниципального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4653000"/>
          <a:ext cx="9144000" cy="2006640"/>
        </p:xfrm>
        <a:graphic>
          <a:graphicData uri="http://schemas.openxmlformats.org/drawingml/2006/table">
            <a:tbl>
              <a:tblPr/>
              <a:tblGrid>
                <a:gridCol w="395280"/>
                <a:gridCol w="1265400"/>
                <a:gridCol w="4539960"/>
                <a:gridCol w="29433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.1 ст. 3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существления контроля за деятельностью бюджетных и казенных учреждений субъекта Российской Федерации (муниципальных бюджетных и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79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редоставления бюджетных инвестиций автономным  и бюджетным учреждениям субъектов Российской Федерации (муниципальным автономным и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628640"/>
          <a:ext cx="9144000" cy="47437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 ст. 221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ставления, утверждения и ведения бюджетных смет казенных учреждений субъектов Российской Федерации (муниципальных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автономным учреждениям в финансовом органе субъекта Российской Федерации (муниципального образования) и проведения кассовых выплат за счет средств автономных учреждений, лицевые счета которым открыты в финансовом органе субъекта Российской Федерации (муниципальном образован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, 6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бюджетным учреждениям субъектов Российской Федерации (муниципальных бюджетных учреждений) в финансовом органе субъекта Российской Федерации (муниципального образования) и порядка проведения кассовых выплат за счет средств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10 п. 20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учета и хранения исполнительных документов, предусматривающих взыскание на средства бюджетных учреждений субъектов Российской Федерации (муниципальных бюджетных учреждений), и иных документов, связанных с их исполнени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700280"/>
          <a:ext cx="9144000" cy="4378320"/>
        </p:xfrm>
        <a:graphic>
          <a:graphicData uri="http://schemas.openxmlformats.org/drawingml/2006/table">
            <a:tbl>
              <a:tblPr/>
              <a:tblGrid>
                <a:gridCol w="468360"/>
                <a:gridCol w="1193760"/>
                <a:gridCol w="4538520"/>
                <a:gridCol w="294336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анкционирования расходов бюджетных учреждений субъектов Российской Федерации (муниципальных бюджетных учреждений), источником финансового обеспечения которых являются субсидии, полученные в соответствии с абзацем вторым части 1 статьи 78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пунктом 5 статьи 79 Бюджетного кодекса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18, 19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зыскания в бюджет субъекта Российской Федерации (местный бюджет) неиспользованных в текущем финансовом году остатков субсидий, предоставленных бюджетным учреждениям субъекта Российской Федерации (муниципальным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3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еречисления в бюджет субъекта Российской Федерации (местный бюджет) остатков средств с соответствующих счетов, на которых отражаются операции со средствами бюджетных учреждений субъекта Российской Федерации (муниципальных бюджетных учреждений), а также их возврата на указанные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7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редельно допустимых значений просроченной кредиторской задолженности бюджетного учреждения, превышение которых влечет расторжение трудового договора по инициативе работодателя в соответствии с Трудовым кодексом Российской Федерации с руководителем бюджетного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628640"/>
          <a:ext cx="9144000" cy="48373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48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 33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формы финансового обеспечения деятельности бюджетных учреждений субъекта Российской Федерации (муниципальных бюджетных учреждений) в переходный перио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даты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сдачи в аренду имущества, находящегося в государственной собственности субъекта Российской Федерации (муниципальной собственности) и переданного в оперативное управление указанным учрежде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оказания платных услуг и иной приносящей доход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дательные (представительные) органы государственной власти субъекта Российской Федерации и представительные органы местного само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8:20:31Z</dcterms:created>
  <dc:creator>Alexey.Starovoytov</dc:creator>
  <dc:description/>
  <dc:language>en-US</dc:language>
  <cp:lastModifiedBy>Валева</cp:lastModifiedBy>
  <cp:lastPrinted>2009-05-16T07:21:51Z</cp:lastPrinted>
  <dcterms:modified xsi:type="dcterms:W3CDTF">2010-05-19T06:55:35Z</dcterms:modified>
  <cp:revision>691</cp:revision>
  <dc:subject/>
  <dc:title>Слайд 1</dc:title>
</cp:coreProperties>
</file>