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E2F17-1336-46A2-B6FD-D54164A19B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005B2-CD15-4073-AC00-4A1A6D68B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129BA-4027-43BE-98D4-9DDC7B3E72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83E-D64D-4734-825A-A030507F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B9D-23D2-45D5-98B3-48C90CD0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5FF-8BC0-4E52-80B9-5F370153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C4C-D861-47B2-8E6A-6AE21937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B002-F8BC-4CAA-BE65-54A7D12E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A6CA-2A53-4B9D-82B9-9D9821F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8A9-2F90-44CB-8D8A-B30F129E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83FD-898A-4CCC-8577-1DC34E29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E267-B51B-42D0-A6FC-8228ED48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A60D-ACD4-4838-8ACC-827DAF5F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669C-FADA-4F23-94C7-A47589D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694-86A3-4D6B-99AE-342843A2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C8D9-04EB-4FEA-AEDC-1640F19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0539-16F2-4AF1-A6ED-39B0411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9C5A-CAC5-437D-9043-D4734643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3ADC-4327-478B-AC82-CB53909D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6BE4-E4D2-46B0-9983-A98FE796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984-2433-4344-8A96-F9E437F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AB5-D9DA-43ED-9FD2-72E7D9D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8DF-4EC2-4A9C-B1EC-007950D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E49-0E4E-4D0E-9521-D8501511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EF3-2B34-45DD-953A-3424A4F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2CC-F06B-47D0-9432-B0BBF1E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EE5-8230-4182-8250-A696A18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CD2-0E20-4CB3-97C6-5457B959FAE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06ED223-0A6C-4B7F-AD88-454264356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A921-1C58-426D-BAFA-6C08FD5946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C89B13F-0FC8-4EDD-B021-C51B5DC4B9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116000" y="2133720"/>
            <a:ext cx="7272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орядок формирования и финансового обеспечения государственных зад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Горячая линия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rum.iminfin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CAA0-C7D2-4BCF-8D6E-B237D13CBF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1125360"/>
            <a:ext cx="8964720" cy="280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205596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944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1738440"/>
            <a:ext cx="143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подходов к формированию перечней государственных услуг</a:t>
            </a:r>
            <a:r>
              <a:rPr b="0" lang="ru-RU" sz="2200" spc="-1" strike="noStrike">
                <a:solidFill>
                  <a:srgbClr val="514185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34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настоящее 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1268280"/>
            <a:ext cx="107928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7733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2852640"/>
            <a:ext cx="158436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обрнау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746440"/>
            <a:ext cx="1657440" cy="75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здрав-соц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53440" y="2708280"/>
            <a:ext cx="143964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культ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1418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637000"/>
            <a:ext cx="2016000" cy="75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 вышестоящего министе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76720" y="1557360"/>
            <a:ext cx="100800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1557360"/>
            <a:ext cx="237672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1700280"/>
            <a:ext cx="43200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140360" y="1700280"/>
            <a:ext cx="358560" cy="36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195280" y="2276640"/>
            <a:ext cx="431640" cy="3603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49228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242100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581360"/>
            <a:ext cx="223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 Narrow"/>
              </a:rPr>
              <a:t>Базовый (отраслевой) перечень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министерства в сфере регул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3860640"/>
            <a:ext cx="644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Ведомственный перечень ФОИ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 Narrow"/>
              </a:rPr>
              <a:t>(с правом дополнения и детализации базовых (отраслевых) перечне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637000"/>
            <a:ext cx="0" cy="2156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520380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5170320"/>
            <a:ext cx="2087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5097600"/>
            <a:ext cx="1511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4556160"/>
            <a:ext cx="93492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50259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6140520"/>
            <a:ext cx="5113440" cy="31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ФО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4843440"/>
            <a:ext cx="107964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4843440"/>
            <a:ext cx="1944720" cy="217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4987800"/>
            <a:ext cx="288720" cy="2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32360" y="4941720"/>
            <a:ext cx="287280" cy="333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01080" y="5853240"/>
            <a:ext cx="0" cy="2142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382E-634C-40ED-8511-E371F463C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160" y="549360"/>
            <a:ext cx="919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формата перечня гос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2205000"/>
          <a:ext cx="8424720" cy="676440"/>
        </p:xfrm>
        <a:graphic>
          <a:graphicData uri="http://schemas.openxmlformats.org/drawingml/2006/table">
            <a:tbl>
              <a:tblPr/>
              <a:tblGrid>
                <a:gridCol w="1474560"/>
                <a:gridCol w="1405080"/>
                <a:gridCol w="2057400"/>
                <a:gridCol w="1758960"/>
                <a:gridCol w="172872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еквизиты НПА, утверждающего адм.регла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1557360"/>
            <a:ext cx="91440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чень утверждает отраслевое министерство для всех учреждений соотв. от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форм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760920"/>
            <a:ext cx="309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ff7c8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</a:t>
            </a:r>
            <a:r>
              <a:rPr b="0" lang="ru-RU" sz="1800" spc="-1" strike="noStrike">
                <a:solidFill>
                  <a:srgbClr val="3333cc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200" y="4552920"/>
          <a:ext cx="8866440" cy="809640"/>
        </p:xfrm>
        <a:graphic>
          <a:graphicData uri="http://schemas.openxmlformats.org/drawingml/2006/table">
            <a:tbl>
              <a:tblPr/>
              <a:tblGrid>
                <a:gridCol w="1378080"/>
                <a:gridCol w="1584360"/>
                <a:gridCol w="1800000"/>
                <a:gridCol w="2664000"/>
                <a:gridCol w="144000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ФГУ (групп ФГ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rot="16200000">
            <a:off x="1585080" y="2913840"/>
            <a:ext cx="284400" cy="2952720"/>
          </a:xfrm>
          <a:custGeom>
            <a:avLst/>
            <a:gdLst>
              <a:gd name="textAreaLeft" fmla="*/ 0 w 284400"/>
              <a:gd name="textAreaRight" fmla="*/ 102600 w 2844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4920" y="3573360"/>
            <a:ext cx="3313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 ВПРАВЕ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  (в ряде случаев – обязано)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твердить в 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6968160" y="3481920"/>
            <a:ext cx="284040" cy="4067280"/>
          </a:xfrm>
          <a:custGeom>
            <a:avLst/>
            <a:gdLst>
              <a:gd name="textAreaLeft" fmla="*/ 0 w 284040"/>
              <a:gd name="textAreaRight" fmla="*/ 102600 w 284040"/>
              <a:gd name="textAreaTop" fmla="*/ 105840 h 4067280"/>
              <a:gd name="textAreaBottom" fmla="*/ 3961440 h 40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234"/>
                </a:lnTo>
                <a:cubicBezTo>
                  <a:pt x="10800" y="15134"/>
                  <a:pt x="16200" y="16034"/>
                  <a:pt x="21600" y="16034"/>
                </a:cubicBezTo>
                <a:cubicBezTo>
                  <a:pt x="16200" y="16034"/>
                  <a:pt x="10800" y="16934"/>
                  <a:pt x="10800" y="178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1147680"/>
            <a:ext cx="36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  НАСТОЯЩЕЕ    ВРЕМ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068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 (приложение 2 к проекту постановл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5328360" y="2169000"/>
            <a:ext cx="287640" cy="4390920"/>
          </a:xfrm>
          <a:custGeom>
            <a:avLst/>
            <a:gdLst>
              <a:gd name="textAreaLeft" fmla="*/ 0 w 287640"/>
              <a:gd name="textAreaRight" fmla="*/ 103680 w 28764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604"/>
                </a:lnTo>
                <a:cubicBezTo>
                  <a:pt x="10800" y="4504"/>
                  <a:pt x="16200" y="5404"/>
                  <a:pt x="21600" y="5404"/>
                </a:cubicBezTo>
                <a:cubicBezTo>
                  <a:pt x="16200" y="5404"/>
                  <a:pt x="10800" y="6304"/>
                  <a:pt x="10800" y="72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557080" y="3211200"/>
            <a:ext cx="284040" cy="4608360"/>
          </a:xfrm>
          <a:custGeom>
            <a:avLst/>
            <a:gdLst>
              <a:gd name="textAreaLeft" fmla="*/ 0 w 284040"/>
              <a:gd name="textAreaRight" fmla="*/ 102600 w 2840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000" y="5848200"/>
            <a:ext cx="446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5848200"/>
            <a:ext cx="410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ВПРАВ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в ряде случаев – обязано)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656E-EF5A-4485-B904-19199984D0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Требования к качеству госуслуги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ЦЕССУ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технологии) оказания госуслуги (образовательные стандарты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граммы, протоколы лечения, административные регламенты и т.д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если утверждены нормативным правовым актом Правительства РФ или Министерства, указываются в базовом (отраслевом) и ведомственном перечне в обязательном порядке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сылка. ПРОБЛЕМА – скрытые нефинансируемые мандаты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если утверждены нормативным правовым актом ФОИВ (при наличии полномочий), указываются в ведомственном перечне госуслуг в обязательном порядке (ссылка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решению Министерства и (или) ФОИВ в базовом и (или) ведомственном перечне могут указываться дополнительные требования (с приложением к перечню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2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ЛОВИЯ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оказания госуслуги (помещениям, оборудованию и т.д.) – аналогично (ПРОБЛЕМА – скрытые нефинансируемые мандаты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) Показатели, используемые для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КИ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результатов оказания услуг (удовлетворенность потребителей, ЕГЭ и т.д.) – указываются по решению Министерства (в базовом перечне) и (или) ФОИВ (в ведомственном перечне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основе подпрограмм по оказанию госуслуг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57F0-719B-4663-A50D-E8211395F2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9400" y="620640"/>
            <a:ext cx="899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"/>
              </a:rPr>
              <a:t>Форма госзад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268280"/>
            <a:ext cx="7129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чная форма устанавливается Правительством РФ </a:t>
            </a: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(может расширяться по решению ФОИ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формы задания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1) задание на оказание услуг, 2) задание на выполнение раб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2593800"/>
          <a:ext cx="8713800" cy="4150080"/>
        </p:xfrm>
        <a:graphic>
          <a:graphicData uri="http://schemas.openxmlformats.org/drawingml/2006/table">
            <a:tbl>
              <a:tblPr/>
              <a:tblGrid>
                <a:gridCol w="2808360"/>
                <a:gridCol w="5905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Раздел гос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то планируется изменить/сохра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ыписка из Р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ключается (в соответствии с законом 83-Ф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пределение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став информации о потребителях в ГЗ упрощае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казатели качества и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храняются, показатели качества делятся на 3 группы, вводятся минимальные требования к их утвержд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оказания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прощается (сохраняются ссылки на НПА и требования к информированию потребителей, исключаются детальные требования к имуществу, кадр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контроля и досрочного прек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в госзадании (количество представляемой информации сохраняет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дельные цены (тариф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(количество информации сохраняется) – платные услуги в рамках госздания не предоставляю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ребования к отчетности об исполнении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водится форма отчета, расширенная по сравнению с действующим вариа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020000" y="1557360"/>
            <a:ext cx="2016000" cy="647640"/>
          </a:xfrm>
          <a:prstGeom prst="wedgeRoundRectCallout">
            <a:avLst>
              <a:gd name="adj1" fmla="val -68976"/>
              <a:gd name="adj2" fmla="val -52939"/>
              <a:gd name="adj3" fmla="val 16667"/>
            </a:avLst>
          </a:prstGeom>
          <a:solidFill>
            <a:srgbClr val="ffff99"/>
          </a:solidFill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м. Приложения 1, 2 к Полож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B73D-B0EF-4A7B-869D-670756FB19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оказатели качества госуслуг, включаемые в госзадание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487520"/>
            <a:ext cx="86486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результату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процессу и условиям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нь показателе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(БЕЗ УСТАНОВЛЕНИЯ ИХ ЗНАЧЕНИ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возможны формулировки «сохранение», «рост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нижение»), по которым будут оцениваться результаты оказания госулсуг (деятельность ФГУ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лько указанные в ведомственном перечне (установление индивидуальных показателей оценки не допускается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F031-DAD0-48B5-86B4-FEDE238E9C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Расчетно-нормативные затраты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1449360"/>
            <a:ext cx="6264360" cy="648000"/>
          </a:xfrm>
          <a:prstGeom prst="rect">
            <a:avLst/>
          </a:prstGeom>
          <a:noFill/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Методические рекомендации Минфина Росс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(Приказ 105н в новой редак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349360"/>
            <a:ext cx="83516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"/>
              </a:rPr>
              <a:t>Общие принципы сохраняю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Разделение затрат на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услуг (выполнение работ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имущества в «спящем» режиме (30% от расходов, вопрос к обсуждению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3 способа определения нормативов на услу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озможность дифференциации норматив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1E0D-8C95-4D3B-B5D3-D1AA176137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345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ФОРМУЛА РАСЧЕТА ЗАТРАТ НА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ОКАЗАНИЕ ГОСУДАРСТВЕННОЙ УСЛУГИ</a:t>
            </a:r>
            <a:endParaRPr b="0" lang="en-US" sz="1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2575080" y="1344600"/>
            <a:ext cx="3671640" cy="865080"/>
          </a:xfrm>
          <a:prstGeom prst="flowChartAlternateProcess">
            <a:avLst/>
          </a:prstGeom>
          <a:solidFill>
            <a:srgbClr val="969696">
              <a:alpha val="4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Rectangle 3"/>
              <p:cNvSpPr txBox="1"/>
              <p:nvPr/>
            </p:nvSpPr>
            <p:spPr>
              <a:xfrm>
                <a:off x="2830680" y="1422360"/>
                <a:ext cx="3139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у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ч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41520" y="2652840"/>
            <a:ext cx="850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оч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– норматив затрат на оказание единицы государственной услуги ФОИВ (ФБУ) на соответствующий финансовый г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ki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личество единиц оказания одной государственной услуги в соответствующем финансовом 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076640"/>
            <a:ext cx="8353440" cy="647640"/>
          </a:xfrm>
          <a:prstGeom prst="rect">
            <a:avLst/>
          </a:prstGeom>
          <a:solidFill>
            <a:srgbClr val="96969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Ы РАСЧЕТА НОРМАТ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ТРАТ НА ОКАЗАНИЕ ЕДИНИЦЫ ГОСУДАРСТВЕННОЙ 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5840" y="4581000"/>
            <a:ext cx="7272000" cy="1080000"/>
            <a:chOff x="915840" y="4581000"/>
            <a:chExt cx="7272000" cy="1080000"/>
          </a:xfrm>
        </p:grpSpPr>
        <p:sp>
          <p:nvSpPr>
            <p:cNvPr id="224" name=""/>
            <p:cNvSpPr/>
            <p:nvPr/>
          </p:nvSpPr>
          <p:spPr>
            <a:xfrm>
              <a:off x="91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орматив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труктур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620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эксперт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4235760" y="4725720"/>
              <a:ext cx="1080" cy="504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2" idx="2"/>
              <a:endCxn id="224" idx="0"/>
            </p:cNvCxnSpPr>
            <p:nvPr/>
          </p:nvCxnSpPr>
          <p:spPr>
            <a:xfrm rot="5400000">
              <a:off x="2731680" y="3725280"/>
              <a:ext cx="648360" cy="2359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2" idx="2"/>
              <a:endCxn id="226" idx="0"/>
            </p:cNvCxnSpPr>
            <p:nvPr/>
          </p:nvCxnSpPr>
          <p:spPr>
            <a:xfrm flipH="1" rot="16200000">
              <a:off x="5058720" y="3758040"/>
              <a:ext cx="648360" cy="2293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30" name=""/>
          <p:cNvSpPr/>
          <p:nvPr/>
        </p:nvSpPr>
        <p:spPr>
          <a:xfrm>
            <a:off x="1332000" y="5950080"/>
            <a:ext cx="9144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5950080"/>
            <a:ext cx="71892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602136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11280" y="6237360"/>
            <a:ext cx="13687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6021360"/>
            <a:ext cx="71928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88000" y="6308640"/>
            <a:ext cx="1368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655308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9EFC760-35D1-4AB1-8475-2A4847B314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BB3-F02B-42FD-99C9-9E855CD81A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36240" y="336240"/>
            <a:ext cx="75502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Направления развития нормативов</a:t>
            </a:r>
            <a:endParaRPr b="0" lang="en-US" sz="20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448000" y="1227240"/>
            <a:ext cx="4128840" cy="766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ТИВ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нансового обеспечения государственных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52280" y="3124080"/>
            <a:ext cx="1540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диви-ду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809720" y="3352680"/>
            <a:ext cx="1981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коэффициен-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924360" y="3789360"/>
            <a:ext cx="182880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796000" y="4437000"/>
            <a:ext cx="1846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равоч-ные коэф-фиц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24720" y="4869000"/>
            <a:ext cx="161928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-му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9"/>
          <p:cNvCxnSpPr>
            <a:stCxn id="240" idx="1"/>
            <a:endCxn id="241" idx="0"/>
          </p:cNvCxnSpPr>
          <p:nvPr/>
        </p:nvCxnSpPr>
        <p:spPr>
          <a:xfrm flipV="1" rot="10800000">
            <a:off x="921600" y="1611000"/>
            <a:ext cx="1526400" cy="1513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7" name="AutoShape 10"/>
          <p:cNvCxnSpPr>
            <a:stCxn id="240" idx="1"/>
            <a:endCxn id="242" idx="0"/>
          </p:cNvCxnSpPr>
          <p:nvPr/>
        </p:nvCxnSpPr>
        <p:spPr>
          <a:xfrm flipH="1" flipV="1" rot="10800000">
            <a:off x="2446920" y="1610280"/>
            <a:ext cx="353160" cy="1742040"/>
          </a:xfrm>
          <a:prstGeom prst="bentConnector4">
            <a:avLst>
              <a:gd name="adj1" fmla="val -64795"/>
              <a:gd name="adj2" fmla="val 60975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8" name="AutoShape 11"/>
          <p:cNvCxnSpPr>
            <a:stCxn id="240" idx="2"/>
            <a:endCxn id="243" idx="0"/>
          </p:cNvCxnSpPr>
          <p:nvPr/>
        </p:nvCxnSpPr>
        <p:spPr>
          <a:xfrm flipH="1" rot="16200000">
            <a:off x="3778200" y="2728440"/>
            <a:ext cx="1796040" cy="326160"/>
          </a:xfrm>
          <a:prstGeom prst="bentConnector3">
            <a:avLst>
              <a:gd name="adj1" fmla="val 49939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9" name="AutoShape 12"/>
          <p:cNvCxnSpPr>
            <a:stCxn id="240" idx="3"/>
            <a:endCxn id="244" idx="0"/>
          </p:cNvCxnSpPr>
          <p:nvPr/>
        </p:nvCxnSpPr>
        <p:spPr>
          <a:xfrm>
            <a:off x="6576480" y="1611000"/>
            <a:ext cx="143640" cy="2826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0" name="AutoShape 13"/>
          <p:cNvCxnSpPr>
            <a:stCxn id="240" idx="3"/>
            <a:endCxn id="245" idx="0"/>
          </p:cNvCxnSpPr>
          <p:nvPr/>
        </p:nvCxnSpPr>
        <p:spPr>
          <a:xfrm>
            <a:off x="6576840" y="1611000"/>
            <a:ext cx="1758240" cy="3258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1" name="AutoShape 14"/>
          <p:cNvCxnSpPr/>
          <p:nvPr/>
        </p:nvCxnSpPr>
        <p:spPr>
          <a:xfrm>
            <a:off x="1042920" y="4652640"/>
            <a:ext cx="6555600" cy="15850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52" name="Text Box 15"/>
          <p:cNvSpPr/>
          <p:nvPr/>
        </p:nvSpPr>
        <p:spPr>
          <a:xfrm>
            <a:off x="2050920" y="5516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FFC-CE55-434B-920C-F1B2A8ADE9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32720" y="2349360"/>
            <a:ext cx="2232000" cy="1511280"/>
          </a:xfrm>
          <a:prstGeom prst="wedgeRoundRectCallout">
            <a:avLst>
              <a:gd name="adj1" fmla="val -199856"/>
              <a:gd name="adj2" fmla="val -32458"/>
              <a:gd name="adj3" fmla="val 16667"/>
            </a:avLst>
          </a:prstGeom>
          <a:solidFill>
            <a:srgbClr val="cc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случаях, если иное не предусмотрено федер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Arial Narrow"/>
              </a:rPr>
              <a:t>Вопросы, урегулированные в Методических рекомендациях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0200" y="1487520"/>
            <a:ext cx="6788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писание подходов к организации работы по составлению государственных заданий для казенных, бюджетных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 Narrow"/>
              </a:rPr>
              <a:t>автономных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учреждений, в т.ч.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составлению и утверждению перечней государственных услуг (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разработке и утверждению требований к качеству услуг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заполнению формы государственного задания (для услуг и 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осуществлению контроля за выполнением государственного задания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2421000"/>
            <a:ext cx="2952720" cy="165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C8F4-CDF2-488B-9724-C651806B6A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856800"/>
            <a:ext cx="7724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перечня платных услуг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60360" y="2286000"/>
            <a:ext cx="8478720" cy="3643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формирует исчерпывающий перечень платных услуг для каждого подведомственного учрежд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формирует и утверждает единый исчерпывающий перечень платных услуг, а учреждение определяет какие услуги из данного перечня оно оказыва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учреждение формирует и утверждает перечень платных услуг по согласованию с учредител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учреждение самостоятельно  формирует и утверждает перечень платных 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0F99-45C0-4DA3-9B44-B51BA4BD3D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Нормы законодательства РФ, регулирующие работу с </a:t>
            </a:r>
            <a:br>
              <a:rPr sz="2200"/>
            </a:b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государственными (муниципальными) заданиями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йствующи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10160" y="14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Новы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276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184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, 78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565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(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3500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 некоммерческих организац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9.2, ст.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2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443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№83-ФЗ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81080" y="1413000"/>
            <a:ext cx="4105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840" y="1863720"/>
            <a:ext cx="1440" cy="14940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49228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35772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1628640"/>
            <a:ext cx="0" cy="29527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06064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270828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364500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458136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5008680"/>
            <a:ext cx="5184720" cy="183816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зменены: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организаций, для которых составляется госзад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госза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я на включение в госзадание платных услу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2A24-A3AE-4742-9EE6-954D4DFCF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672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цен (тарифов) на платные услуги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85880" y="2104920"/>
            <a:ext cx="7643880" cy="4237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утверждает состав затрат и цены (тарифы) по каждой платной услуге, оказываемой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утверждает предельные цены (тарифы) на каждую платную услугу, оказываемую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бюджетное учреждение утверждает цены на оказываемые им платные услуги по согласованию с учредител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бюджетное учреждение самостоятельно утверждает цены на оказываемые им платные услу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8FB4-8AC3-4E1A-94D1-D244157B2F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642960" y="1428840"/>
          <a:ext cx="7643880" cy="4513320"/>
        </p:xfrm>
        <a:graphic>
          <a:graphicData uri="http://schemas.openxmlformats.org/drawingml/2006/table">
            <a:tbl>
              <a:tblPr/>
              <a:tblGrid>
                <a:gridCol w="1528920"/>
                <a:gridCol w="1528560"/>
                <a:gridCol w="1528920"/>
                <a:gridCol w="1528560"/>
                <a:gridCol w="1528920"/>
              </a:tblGrid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Переч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для каждого учреж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выбирает из перечня, утвержденного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состав затрат и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бол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 - предельные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мен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2" name="Прямоугольный треугольник 16"/>
          <p:cNvSpPr/>
          <p:nvPr/>
        </p:nvSpPr>
        <p:spPr>
          <a:xfrm>
            <a:off x="642960" y="1428840"/>
            <a:ext cx="1500120" cy="1285920"/>
          </a:xfrm>
          <a:prstGeom prst="rtTriangle">
            <a:avLst/>
          </a:prstGeom>
          <a:solidFill>
            <a:srgbClr val="00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  <a:ea typeface="Arial"/>
              </a:rPr>
              <a:t>Ц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Стрелка вправо 17"/>
          <p:cNvGrpSpPr/>
          <p:nvPr/>
        </p:nvGrpSpPr>
        <p:grpSpPr>
          <a:xfrm>
            <a:off x="2787480" y="2981160"/>
            <a:ext cx="4997160" cy="2791080"/>
            <a:chOff x="2787480" y="2981160"/>
            <a:chExt cx="4997160" cy="2791080"/>
          </a:xfrm>
        </p:grpSpPr>
        <p:pic>
          <p:nvPicPr>
            <p:cNvPr id="264" name="Стрелка вправо 17" descr=""/>
            <p:cNvPicPr/>
            <p:nvPr/>
          </p:nvPicPr>
          <p:blipFill>
            <a:blip r:embed="rId1"/>
            <a:stretch/>
          </p:blipFill>
          <p:spPr>
            <a:xfrm>
              <a:off x="2787480" y="2981160"/>
              <a:ext cx="4997160" cy="27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425600">
              <a:off x="2712960" y="3997440"/>
              <a:ext cx="4995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Box 18"/>
          <p:cNvSpPr/>
          <p:nvPr/>
        </p:nvSpPr>
        <p:spPr>
          <a:xfrm>
            <a:off x="421272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728460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571284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428400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264096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271260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578412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421272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735588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578412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728460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58557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26409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421272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4"/>
          <p:cNvSpPr/>
          <p:nvPr/>
        </p:nvSpPr>
        <p:spPr>
          <a:xfrm>
            <a:off x="3212640" y="3071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5"/>
          <p:cNvSpPr/>
          <p:nvPr/>
        </p:nvSpPr>
        <p:spPr>
          <a:xfrm>
            <a:off x="7713000" y="56437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738-76EE-4D57-AE6D-3FC6C92C46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040" y="6919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Уточнение формы госзадания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341360"/>
            <a:ext cx="82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9.2 БК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(М)З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492280"/>
            <a:ext cx="1081080" cy="64260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ыписку из Р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349360"/>
            <a:ext cx="2808360" cy="1465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азатели, характеризующие состав, качество и (или) объем (содержание) оказываемых Г(М)У (выполняемых рабо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205000"/>
            <a:ext cx="2160720" cy="1573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контроля за исполнением Г(М)З, в том числе условия и порядок его досрочного прек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1628640"/>
            <a:ext cx="1549440" cy="119124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ребования к отчетности об исполнении Г(М)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959360"/>
            <a:ext cx="2952720" cy="146556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пределение категорий физических и (или) юридических лиц, являющихся потребителями соответствующи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5013360"/>
            <a:ext cx="1440000" cy="91692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оказания услуг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4437000"/>
            <a:ext cx="3529080" cy="173988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ельные цены (тарифы) на оплату услуг либо порядок установления указанных цен (тарифов) </a:t>
            </a:r>
            <a:r>
              <a:rPr b="0" lang="ru-RU" sz="1800" spc="-1" strike="noStrike">
                <a:solidFill>
                  <a:srgbClr val="cc0000"/>
                </a:solidFill>
                <a:latin typeface="Arial Narrow"/>
              </a:rPr>
              <a:t>в случаях, установленных законодательством Р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( ПРОБЛЕМА)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76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(М)З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казание услуг так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06064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060640"/>
            <a:ext cx="0" cy="28872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1989000"/>
            <a:ext cx="259236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989000"/>
            <a:ext cx="0" cy="2178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844640"/>
            <a:ext cx="403200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52772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4437000"/>
            <a:ext cx="0" cy="57456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133720"/>
            <a:ext cx="1296720" cy="1295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3640" y="2133720"/>
            <a:ext cx="1223640" cy="1439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7FA1-40FB-4A26-8318-BCD5362A0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В государственное задание могут быть включены</a:t>
            </a:r>
            <a:r>
              <a:rPr b="1" lang="en-US" sz="2600" spc="-1" strike="noStrike">
                <a:solidFill>
                  <a:srgbClr val="514185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514185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тные услуги, если в федеральном законе предусмотрена возможность оказания их за пла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(по отношению к подразумеваемому, но четко не определенному «стандарту») платные услуги, если в федеральном законе предусмотрена такая возможность (указана для образования, здравоохранения, библиотек, архивов…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те платные услуги, возможность оказания которых в рамках государственного за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СРЕДСТВ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усмотрена федеральным закон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 данный момент отсутствуют, нужно ли вносить изменен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CAA-61AB-4DC6-AFE5-B01D6884A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х возможность оказания любых платных услуг</a:t>
            </a:r>
            <a:endParaRPr b="0" lang="en-US" sz="2400" spc="-1" strike="noStrike">
              <a:solidFill>
                <a:srgbClr val="514185"/>
              </a:solidFill>
              <a:latin typeface="Arial Narrow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00040" y="2276640"/>
          <a:ext cx="8286840" cy="3600000"/>
        </p:xfrm>
        <a:graphic>
          <a:graphicData uri="http://schemas.openxmlformats.org/drawingml/2006/table">
            <a:tbl>
              <a:tblPr/>
              <a:tblGrid>
                <a:gridCol w="1712880"/>
                <a:gridCol w="657396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сновы законодательства Российской Федерации 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ультуре» (№3612-1, ст. 52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Цены (тарифы) на платные услуги и продукцию, включая цены на билеты, организации культуры устанавливают самостоятель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оциальное обслуживание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сновах социального обслуживания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Российской Федерации»  (№ 195-ФЗ, ст. 15):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Социальное обслуживание осуществляется …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бесплатно и за пла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A9F5-8B3C-464F-9F45-0076155E9E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57120" y="78588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Times New Roman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е возможность оказания дополнительных платных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2568-5564-4FFC-9098-C81570B9D3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928880"/>
          <a:ext cx="8429400" cy="4403520"/>
        </p:xfrm>
        <a:graphic>
          <a:graphicData uri="http://schemas.openxmlformats.org/drawingml/2006/table">
            <a:tbl>
              <a:tblPr/>
              <a:tblGrid>
                <a:gridCol w="2071440"/>
                <a:gridCol w="6357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бразовании» (ст. 19, 41, 45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осударственное и муниципальное образователь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учреждения вправе оказывать … плат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ДОПОЛНИТЕЛЬНЫЕ образовательные у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Основы законодательства об охране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 (ст. 20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е имеют право на ДОПОЛНИТЕЛЬНЫЕ медицинские и иные услуги … за счет средств предприятий, учреждений и организаций, своих личных средств и иных источ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Библиотечное обслужи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 библиотечном деле»  (№78-ФЗ, ст. 7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общедоступных библиотеках граждане имеют право…пользоваться ДРУГИМИ видами услуг, в том числе платными, перечень которых определяется правилами пользования библиоте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Архивное де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архивном деле»  (№ 125-ФЗ, ст. 26):</a:t>
                      </a:r>
                      <a:r>
                        <a:rPr b="0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…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рхивы, музеи, библиотеки, а также государственные и муниципальные организации могут… оказывать пользователю архивными документами платные ИНФОРМАЦИОННЫЕ услуг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80BF-2A4F-47D9-A913-CC0155ACE8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редложение</a:t>
            </a:r>
            <a:r>
              <a:rPr b="1" lang="en-US" sz="2600" spc="-1" strike="noStrike">
                <a:solidFill>
                  <a:srgbClr val="514185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1920" y="1413000"/>
            <a:ext cx="8488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 ВКЛЮЧАТЬ В ГОСУДАРСТВЕННОЕ ЗАДАНИЕ НИКАКИЕ ПЛАТНЫЕ УСЛУГИ И НЕ ВНОСИТЬ ИЗМЕНЕНИЯ В ЗАКОНЫ, ПОЗВОЛЯЮЩИЕ ЭТО ДЕЛА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ждая платная услуга –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тдельная услуг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в том числе четко отделенная от основной (оказываемой в рамках госзадания) услуги (включая более комфортные условия их оказания, дополнительные расходные материалы, более высокая квалификация персонала и т.д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я учреждений культуры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метом госзадания (услугой) являются результаты деятельности учреждения (постановки, экспозиции, экскурсии, сохранность и доступность фондов и т.д.), а число посетителей – лишь один из показателей их качества (не планируется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0CFB-01E9-454E-8D73-38BE04A47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Полномочия по регулированию порядка формирования и финансового обеспечения госзадания (на федеральном уровне)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484280"/>
            <a:ext cx="395928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ределение порядка формирования и финансового обеспечения (общие требования) – постановления № 1065 от 29.12.2008 (новая редакция) и № 182 от 18.03.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расчету нормативных затрат (приказы 105н от 22.10.2009 и 134 от 17.04.2009 (с учетом поправок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формированию и финансовому обеспечению госзаданий (совместный приказ, нов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2781360"/>
            <a:ext cx="352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Министерства – базовые (отраслевые) перечни гос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ФОИВ -  ведомственные перечни госуслуг, порядок формирования и финан-сового обеспечения госзаданий, утверждение госзаданий, контр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205000"/>
            <a:ext cx="433440" cy="4319640"/>
          </a:xfrm>
          <a:custGeom>
            <a:avLst/>
            <a:gdLst>
              <a:gd name="textAreaLeft" fmla="*/ 0 w 433440"/>
              <a:gd name="textAreaRight" fmla="*/ 156600 w 43344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C0AE-9C61-4E11-B871-B4445F2BC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Организация работы с госзаданием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484280"/>
            <a:ext cx="856908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тверждение (уточнение) базового (отраслевого) перечня госуслуг – Министерства в сферах веден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ФОИВ для подведомственных госучреждений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чняет) ведомственный перечень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(уточняет) порядок определения расчетно-нормативных за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требования к качеству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формирования и финансового обеспечения госзаданий (может включать пункты 2 и 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осуществления контроля за выполнением госзадания (может быть объединен с пунктом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ует и утверждает госзадания, рассчитывает (в пределах бюджетных ассигнований) субсид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яет в установленном порядке субсидии (в рамках кассового план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ет контроль за исполнением госзаданий (в т.ч. проводит проверку отчетност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7819-F21D-4D44-BAE5-C6FCE8F9C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user</cp:lastModifiedBy>
  <cp:lastPrinted>2009-06-02T16:42:35Z</cp:lastPrinted>
  <dcterms:modified xsi:type="dcterms:W3CDTF">2010-06-23T19:12:24Z</dcterms:modified>
  <cp:revision>985</cp:revision>
  <dc:subject/>
  <dc:title>No Slide Title</dc:title>
</cp:coreProperties>
</file>