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50FDB0-D175-42B4-BA02-3B6EB5FAC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9629C-CCC4-4637-B180-859D852791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4320A-B144-406E-8FE6-018327482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CA8-88A0-40E0-BE04-B52FB542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7A8-8FEF-4F3C-9DE7-BDDF50B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37F-4E42-416F-886E-48B5116D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C8F-21CA-4D6C-A2ED-20C4171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8B25-1E17-4CA0-B577-83C2B949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493B-D7AA-4F62-8177-EED9AF4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3A53-E588-45D3-81CF-A5BC2830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AD0-57EA-4C1F-A119-CC92410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39B8-A9BD-48AF-B42F-54AD580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69A4-1269-480C-9727-8643C53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355-F794-452E-A8B5-8EBE671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B1F-8E54-4743-9631-70FC388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FB02-35FB-418F-B0A9-C2962EA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955B-A0C9-4393-BCE0-1128F1A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36E2-9C96-4A7C-B093-FCE2F24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7CA-6209-41E0-B39E-B7D60A87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499-A2B7-411A-B260-37CA0E71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B3A-C4B9-4D86-A10B-C0EC8EA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21A-34AF-448F-93AD-336BEAC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E62-B644-4E6A-81DA-F5CAF86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495-9150-4CFB-BCD5-79E7522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B12-B3D2-461E-8B96-7FAE86D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E7B-05FF-4405-B46F-DA11B1D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FC5-B7F4-4135-B307-F6172F8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63C-BDDC-4C6D-BA7F-E50FF0C5A7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10C96EF-E190-424D-9AF1-C18B9DF24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E98A-EDEB-4328-AFA5-8C7BAFD8DE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4506316-E51F-4082-9821-D56B4AFC7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352960"/>
            <a:ext cx="8280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</a:rPr>
              <a:t>О Порядке санкционирования расходов федеральных  государственных учреждений, источником финансового обеспечения которых являются субсидии, полученные в соответствии с абзацем вторым пункта 1 статьи 78.1 Бюджетного кодекса Российской Федераци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Саакян Т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бюджетной политики и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821-C6D1-412A-948E-A7D4EDDF28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15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м законом № 83-ФЗ от 08.05.2010 г. выделено три типа государственных учреждений: автономные, бюджетные и казенные. 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324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в отношении государственного учреждения, созданного Российской Федерацией, в случае, если иное не установлено федеральными законами, нормативными правовыми актами Президента Российской Федерации или Правительства Российской Федерации, осуществляются соответственно уполномоченным федеральным органом исполнительной власти. Таким образом, необходимо систематизировать и регламентировать деятельность федеральных органов исполнительной власти по осуществлению ими функций и полномочий учредител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автоном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аз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государственных учреждений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71E-2403-43A7-B1E9-1A6BBB788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658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настоящее время действует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, которое нуждается в изменениях в связи с принятием Федерального закона № 83-ФЗ от 08.05.2010 г. 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3357720"/>
            <a:ext cx="85312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Аналогичные документы по осуществлению федеральными органами исполнительной власти функций и полномочий учредителя бюджетных и казенных учреждений отсутствую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тоже время действует большое количество отсылочных и перекрестных норм, закрепленных в различных нормативных ак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Это значительно осложняет правоприменительную практи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B7C-1734-4A1F-82E7-7D15D86B38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оссийской Федерации «Об утверждении Положений об осуществлении федеральными органами исполнительной власти функций и полномочий учредителя федерального учреждения» содержит три приложения, в которых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3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бюджет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казен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носятся изменения в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B730-3CC3-4997-8DC0-09845A0DCE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324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проекте также предлагается федеральным органам исполнительной власти, не позднее 1 октября 2010 г. разработать и утвердить 8 различных порядк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я федеральным органом исполнительной власти функций и полномочий учредителя. Данные порядки необходимы для осуществления федеральными органами исполнительной власти функций и полномочий учредителя федерального государствен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енно часть функций и полномочий учредителя федерального государственного учреждения будет осуществляться по порядкам, утвержденным Правительством Российской Федерации, а часть по порядкам, утвержденным федеральными органами исполнительной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21DF-6EAF-4240-A1D1-3EA5219955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Правительством Российской Федерац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47840" y="1857240"/>
            <a:ext cx="8324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федерального бюджетного учреждения при его создании, реорганизации, изменении типа, ликвидаци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тверждение устава федерального бюджетного учреждения, а также вносимые в него измен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и утверждение государственного задания на оказание государственных услуг (выполнение работ) юридическим и физическим лицам в соответствии с предусмотренными уставом федерального бюджетного учреждения основными видами деятель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еречня особо ценного движимого имущества, закрепленного за федеральным бюджетным учреждением учредителем или приобретенного бюджетным учреждением за счет средств, выделенных ему учредителем на приобретение такого имущества, а также внесение в него изменений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е финансовое обеспечение выполнения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E8A7-77BB-481A-BBF3-A5BB9884D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029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федеральными органами исполнительной власт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7840" y="2071440"/>
            <a:ext cx="83246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едварительное согласование совершения федеральным бюджетным учреждением крупных сделок, соответствующих критериям, установленным в пункте 13 статьи 9.2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решения об одобрении действий, в том числе сделок с участием  федерального бюджетного учреждения, в совершении которых имеется заинтересованность, определяемая в соответствии с критериями, установленными в статье 27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особо ценным движимым имуществом, закрепленным за федеральным бюджетным учреждением учредителем либо приобретенным федеральным бюджетным учреждением за счет средств, выделенных его учредителем на приобретение так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44F5-770E-4EAB-9FE4-A342F22AD0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57120" y="642600"/>
            <a:ext cx="84153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недвижимым имуществом федерального бюджетного учреждения, в том числе передачу в аренду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внесения федеральным бюджетным учреждением, в случаях и порядке, предусмотренных федеральными законами, денежных средств (если иное не установлено условиями их предоставления), иного имущества за исключением особо ценного движимого имущества, а также недвижимого имущества, в уставный (складочный) капитал хозяйственных обществ или иным образом передачу им это имущество в качестве их учредителя или участник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передачи некоммерческим организациям в качестве их учредителя или участника денежных средств (если иное не установлено условиями их предоставления) и иного имущества, за исключением особо ценного движимого имущества, закрепленного за ним собственником или приобретенного бюджетным учреждением за счет средств, выделенных ему собственником на приобретение такого имущества, а также недвижим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редельно допустимого значения просроченной кредиторской задолженности федерального бюджетного учреждения, превышение которого влечет расторжении трудового договора с руководителем федерального бюджетного учреждения по инициативе работодателя в соответствии с Трудовым кодексом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ECF-1550-49C9-82D8-0171869AFA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47840" y="856800"/>
            <a:ext cx="8324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й орган исполнительной власти, осуществляющий функции и полномочия учредителя федерального государственного учреждения такж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назначает (утверждает) руководителя федерального бюджетного учреждения и прекращает его полномоч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заключает и прекращает трудовой договор с руководителем федерального бюджетного учрежд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станавливает порядок определения платы для физических и юридических лиц за услуги (работы), относящиеся к основным видам деятельности федерального бюджетного учреждения, оказываемые им  сверх установленного государственного задания, а также в случаях, определенных федеральными законами, в пределах установленного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яет иные функции и полномочия учредителя, установленные федеральными законами и нормативными правовыми актами Президента Российской Федерации и Правительства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9B2C-04EE-47CE-A623-47BB792BC4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ни функций и полномочий учредителя федерального государственного учреждения, осуществляемые в соответствии с требованиями, устанавливаемые Минфином Росс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3246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отчета о результатах  деятельности федерального бюджетного учреждения и об использовании закрепленного за ним федерального имуще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плана финансово-хозяйственной деятельности федерального бюджет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D6C8-9560-48DB-98CC-714119DDB2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8029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Решения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о функциям и полномочиям учредителя федерального государственного учреждения, связанные с недвижимым имуществом и денежными средствами принимаются федеральным органом исполнительной власти по согласовани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47840" y="3071520"/>
            <a:ext cx="83246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 Федеральным агентством по управлению государственным имуществом, за исключением федеральных бюджетных учреждений, находящихся в ведении Министерства обороны Российской Федерации, Управления делами Президента Российской Федерации и Федерального агентства морского и речного транспо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3D5-96D7-4972-8B37-3315B9B3E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9228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юджетный кодекс Российской Федерации (в ред. Закона № 83-ФЗ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тья 78.1. Предоставление субсидий некоммерческим организациям, не являющимся  казен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 бюджетов бюджетной системы Российской Федерации могут предоставляться субсидии бюджетным и автономным учреждениям на ин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рядок определения объема и условия  предоставления указанных субсидий из федерального бюджета и бюджетов государственных внебюджетных фондов Российской Федерации, бюджетов субъектов Российской Федерации и бюджетов территориальных государственных внебюджетных фондов, местных бюджетов устанавливается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E8C2-5030-4A90-AAEF-1384AFC9D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7888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47840" y="1357200"/>
            <a:ext cx="8324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становление вступит в силу с 1 января 2011 г.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 1 июня 2011 внести изменения в устав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CF2-4718-416B-B613-3068E38687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324000" y="549360"/>
            <a:ext cx="8656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6280"/>
            <a:ext cx="914400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ья 30 Федерального закона от 8 мая 2010 г. № 83-Ф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перации со средствам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поступающими федеральным бюджетным учреждениям, бюджетным учреждениям субъекта Российской Федерации, муниципальным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 в порядке, установленном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муниципального образования, учитыва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а отдельном лицевом счете бюджетного учрежд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6. Расходы бюджетных учреждений, источником финансового обеспечения которых являются средства, полученные бюджетными учреждениям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осуществляются после проверки документов, подтверждающих возникновение денежных обязательств, и соответствия содержания операции кодам классификации операций сектора государственного управления и целям предоставления субсиди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рядком санкционирования указанных расходов, установленным соответствующим финансовым органо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с учетом положений пункта 7 части 20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 использованные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текущем финансовом году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остатк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редств, предоставленных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лежат перечисл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бюджетными учреждениям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Остатки средств, перечисленные бюджетными учреждениями в соответствующий бюджет, могут быть возвращены бюджетным учреждениям в очередном финансовом году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аправлении их на те же цели в соответствии с решение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оответствующего главного распорядителя бюдже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C1F4-9395-4B01-A8BF-9A52B8F1B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708280"/>
            <a:ext cx="7201080" cy="414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Book Antiqua"/>
              </a:rPr>
              <a:t>Лицевой счет, п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роверка расчетного документа (Заявки)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казанного в расчетном документе (Заявк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а (кодов) КОСГУ и кода субсидии  в Све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ответствие указанного в расчетном документе (Заявке) кода КОСГУ, коду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ому в Сведениях по соответствующему коду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соответствие указанных в расчетном документе и Заявке кодов КОСГ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ому назначению платежа, исходя из содержания текста назначения платежа,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и с утвержденным в установленном порядке Министерством финансов Россий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ции порядком применения бюджетной классификац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соответствие содержания операции по оплате денежных обязательств на поставки товар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, оказание услуг, аренды, исходя из документа-осн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у КОСГУ и содержанию текста назначения платежа, указанным в расчетном док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непревышение суммы в расчетном документе (Заявке) над суммой остатка соответствующ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ия расходов по коду КОСГУ и соответствующему коду субсид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тенным на лицевом сче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соответствие  информации, указанной в расчетном документе и Заявке, Свед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413000"/>
            <a:ext cx="2376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еде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989000"/>
            <a:ext cx="1584360" cy="144720"/>
          </a:xfrm>
          <a:prstGeom prst="rightArrow">
            <a:avLst>
              <a:gd name="adj1" fmla="val 50000"/>
              <a:gd name="adj2" fmla="val 27369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КР с у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кода субси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932600" y="4820760"/>
            <a:ext cx="406440" cy="1079280"/>
          </a:xfrm>
          <a:prstGeom prst="downArrow">
            <a:avLst>
              <a:gd name="adj1" fmla="val 50000"/>
              <a:gd name="adj2" fmla="val 66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9360"/>
            <a:ext cx="88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хема осуществления санкционирования по целевым субсид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0"/>
            <a:ext cx="6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14185"/>
                </a:solidFill>
                <a:latin typeface="Book Antiqua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052640"/>
            <a:ext cx="1513080" cy="15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(учре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25360"/>
            <a:ext cx="5688000" cy="287640"/>
          </a:xfrm>
          <a:prstGeom prst="rightArrow">
            <a:avLst>
              <a:gd name="adj1" fmla="val 50000"/>
              <a:gd name="adj2" fmla="val 49436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80000" y="1773360"/>
            <a:ext cx="1944720" cy="142920"/>
          </a:xfrm>
          <a:prstGeom prst="rightArrow">
            <a:avLst>
              <a:gd name="adj1" fmla="val 50000"/>
              <a:gd name="adj2" fmla="val 3401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1125360"/>
            <a:ext cx="144144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80000" y="2205000"/>
            <a:ext cx="1944720" cy="287280"/>
          </a:xfrm>
          <a:prstGeom prst="rightArrow">
            <a:avLst>
              <a:gd name="adj1" fmla="val 50000"/>
              <a:gd name="adj2" fmla="val 16923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Расчетный докум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аявка на на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40720" y="4437000"/>
            <a:ext cx="503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нт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4C16-039F-4043-AF93-64D84F61C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7EA-5845-4952-A013-7122227D00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1125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98440" y="692280"/>
            <a:ext cx="884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Times New Roman"/>
                <a:ea typeface="Arial"/>
              </a:rPr>
              <a:t>Порядок взыскания неиспользованных остатков субсидий, предоставленных из федерального бюджета бюджетным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1280" y="1557360"/>
            <a:ext cx="8227800" cy="72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 1 января неиспользованные остатки целевых субсидий учитываются ОФК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ы без права расхо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868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22100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ре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005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530064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1"/>
          <p:cNvSpPr/>
          <p:nvPr/>
        </p:nvSpPr>
        <p:spPr>
          <a:xfrm>
            <a:off x="3851280" y="5445000"/>
            <a:ext cx="2736720" cy="792360"/>
          </a:xfrm>
          <a:prstGeom prst="can">
            <a:avLst>
              <a:gd name="adj" fmla="val 15907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0800000"/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6587280" y="3715920"/>
            <a:ext cx="1018440" cy="1896120"/>
          </a:xfrm>
          <a:prstGeom prst="bentConnector3">
            <a:avLst>
              <a:gd name="adj1" fmla="val -22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885080" y="378936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149720"/>
            <a:ext cx="1150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врат  остатков целевых субсидий, в которых отсутствует потребность (до 1 ию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284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85264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домление по взаимным рас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3577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1962000" cy="151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950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378936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365720"/>
            <a:ext cx="172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(Приложение к Плану ФХД до 1 июл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66100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зыскание после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5589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692-5B99-4F9E-A965-B3A640D2FE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23960" y="-219240"/>
            <a:ext cx="10593360" cy="729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7F3-40E9-483D-BCC9-0D0237B57B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719280" y="-174600"/>
            <a:ext cx="10582560" cy="72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C699-44F5-47BA-AD64-5991578D34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16000" y="2133720"/>
            <a:ext cx="7272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 постановления Правительств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О порядке осущест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едеральными органами исполнительной власти функций и полномочий учредителя федерального государственного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C537-A7C6-445F-9DFD-741C929698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Ф разработан с цель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9680" y="2286000"/>
            <a:ext cx="8325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положений Федерального закона от 8 мая 2010 г. №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истематизации и объединения норм федерального законодательства относительно осуществлении федеральными органами исполнительной власти функций и полномочий учредителя федеральных государственных учреждений всех типов в едином подзаконном нормативном правовом а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1E4B-1031-48E1-BAFB-69C841B30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9945</cp:lastModifiedBy>
  <cp:lastPrinted>2009-06-02T16:42:35Z</cp:lastPrinted>
  <dcterms:modified xsi:type="dcterms:W3CDTF">2010-06-23T15:46:12Z</dcterms:modified>
  <cp:revision>1029</cp:revision>
  <dc:subject/>
  <dc:title>No Slide Title</dc:title>
</cp:coreProperties>
</file>