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BD82-47ED-4C43-9B1E-B4FB6BD3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21B1-AA9E-40CA-AD6D-01FD1CD1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1225-3E4B-4BC2-8CA6-2341842D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E4A0C-9080-4653-903C-61FB3187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8B2C-C143-42B0-9185-FDD9A48A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4CBF-AF3F-4D22-808B-6A69AEB6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3FA6-0E52-45EC-84D0-0762CA2B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386B-F20D-4334-AE00-F61CB532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6A36-2A9B-4AA0-A1CE-5B413BC0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99A1-22C1-4CEF-91E6-F538CEC7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B229-BCFC-43B3-A0D1-F2D368DD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3414-D108-472C-91CA-79D0BDD0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881B-AE28-449F-ABBC-53CC160A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413C-F555-46B4-B113-5055B07B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0FA2-B8C0-4D18-A4FE-E2A2B4E3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750E-ADEA-4EE5-878D-C7542F89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FA18-F2B5-4C07-9AE1-80AA2A07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F7725-8C6B-4922-8731-3125FC58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5667-3570-4499-8B24-BB9CC545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C3707-6868-4C81-A6AB-227E735C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A59E-111D-4556-AD49-DBBB92D0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02584-6A4D-488D-AB3D-6CED1372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6863-0DCC-44CC-87CB-E83A1CE0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F7BD5-19C2-48AE-A2FE-F83E97C4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D009-9B21-4A7A-952A-E39116F8C7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A663-534D-4ED6-A6BE-95BA0186A4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7875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рядок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оздания реорганизации, изменения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ипа и ликвидации федерального государственного учреждения и порядок отнесения к категории особо ценного движимого имущества государственного (муниципального) бюджетного или автономного учре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640" y="4868640"/>
            <a:ext cx="8452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Докладчик: Старовойтов А.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заместитель директора Департамента государственного управления, регионального развития и местного самоуправления                          Аппарата Правительства Российской Федер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83280" y="1700280"/>
            <a:ext cx="2160720" cy="957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308640"/>
            <a:ext cx="9144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г. Моск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221000"/>
            <a:ext cx="29163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4 июня 2010 г.                                               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Создание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24000" y="213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дготовка ФОИВ-СБП проекта РП РФ о создании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324000" y="292428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дготовка ФОИВ-СБП пояснительной записки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роекту РП РФ о создании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324000" y="3789360"/>
            <a:ext cx="856908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гласование проекта РП РФ с Минфином России и МЭР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324000" y="450864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ринятие РП РФ о создании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324000" y="537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тверждение Устава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324000" y="6093000"/>
            <a:ext cx="856908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Государственная регистрация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4643280" y="2637000"/>
            <a:ext cx="0" cy="28728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4643280" y="357336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4643280" y="429264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>
            <a:off x="4643280" y="515772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>
            <a:off x="4643280" y="587700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E23A-A797-4C12-8307-D2F2DA7755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39280" y="692280"/>
            <a:ext cx="8209080" cy="11527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Реорганизация федерального учреждения может быть осуществлена в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771640" y="2781360"/>
            <a:ext cx="1800360" cy="107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ли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79280" y="278136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ffce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ри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4859280" y="2781360"/>
            <a:ext cx="1944720" cy="107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раз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7093080" y="2781360"/>
            <a:ext cx="1871640" cy="107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ы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24000" y="4797360"/>
            <a:ext cx="8640720" cy="187164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ПРЕОБРАЗОВАНИЕ Ф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НКО иной формы или в хозяйственное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допускается только в случаях и в предел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установленных законодательством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8"/>
          <p:cNvSpPr/>
          <p:nvPr/>
        </p:nvSpPr>
        <p:spPr>
          <a:xfrm>
            <a:off x="250920" y="3933720"/>
            <a:ext cx="201600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авовой ак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ФОИВа СП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9"/>
          <p:cNvSpPr/>
          <p:nvPr/>
        </p:nvSpPr>
        <p:spPr>
          <a:xfrm>
            <a:off x="2771640" y="3933720"/>
            <a:ext cx="619308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РП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FD8D-6544-4198-A50E-DAEEFEF5F6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39280" y="691920"/>
            <a:ext cx="8209080" cy="7207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организ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95280" y="2060640"/>
            <a:ext cx="3600360" cy="230328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ФОИВ-СБ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о ре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4859280" y="2060640"/>
            <a:ext cx="3962520" cy="4248000"/>
          </a:xfrm>
          <a:prstGeom prst="wedgeRoundRectCallout">
            <a:avLst>
              <a:gd name="adj1" fmla="val -78925"/>
              <a:gd name="adj2" fmla="val -31129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ИВ, который будет осуществл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ункции и полномочия учредителя подготавли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ект правового акта ФОИВ-СБП о реорганизации ФГУ по согласованию с Минфином России и МЭР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95280" y="4724280"/>
            <a:ext cx="3960720" cy="1944720"/>
          </a:xfrm>
          <a:prstGeom prst="wedgeRoundRectCallout">
            <a:avLst>
              <a:gd name="adj1" fmla="val -35129"/>
              <a:gd name="adj2" fmla="val -68365"/>
              <a:gd name="adj3" fmla="val 16667"/>
            </a:avLst>
          </a:prstGeom>
          <a:noFill/>
          <a:ln w="28440">
            <a:solidFill>
              <a:srgbClr val="0000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50021"/>
                </a:solidFill>
                <a:latin typeface="Times New Roman"/>
              </a:rPr>
              <a:t>в случае изменения по результатам реорганизации подведомственности ФГУ, принимаетс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a50021"/>
                </a:solidFill>
                <a:latin typeface="Times New Roman"/>
              </a:rPr>
              <a:t>РП РФ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B520-1155-477C-BD4F-A96AEEB08C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Реорганиз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324000" y="213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роекта правового акта о реорганиз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324000" y="292428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ояснительной записк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оекту правового акта о реорганиз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324000" y="3789360"/>
            <a:ext cx="856908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Согласование проекта правового а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с Минфином России и МЭР России (если это РП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324000" y="4724280"/>
            <a:ext cx="8569080" cy="43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инятие правового акта о реорганиз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324000" y="537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Изменение Устав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324000" y="6093000"/>
            <a:ext cx="856908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Государственная регистрация соответствующих изме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4643280" y="2637000"/>
            <a:ext cx="0" cy="28728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4643280" y="357336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4643280" y="4508640"/>
            <a:ext cx="0" cy="215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4643280" y="515772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4643280" y="587700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8D812-4088-4BB8-A811-8E5C8D0F2C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39280" y="764640"/>
            <a:ext cx="8209080" cy="8647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324000" y="2421000"/>
            <a:ext cx="4248000" cy="1873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)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 Изменение ти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уществующего ФГУ в цел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здания федер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казенного или бюдже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24000" y="4724280"/>
            <a:ext cx="8640720" cy="165744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ИЗМЕНЕНИЕ ТИПА Ф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НЕ ЯВЛЯЕТСЯ ЕГО РЕОРГАНИЗ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4716360" y="2421000"/>
            <a:ext cx="4248360" cy="1873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)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 Изменение ти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уществующего ФГУ в цел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здания федер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автоно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3E6E-88D0-4D37-9271-1E141027C4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ГУ в целях создания казенного 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324000" y="2637000"/>
            <a:ext cx="3600360" cy="324000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Распор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ительст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643280" y="2349360"/>
            <a:ext cx="4105440" cy="4104000"/>
          </a:xfrm>
          <a:prstGeom prst="wedgeRoundRectCallout">
            <a:avLst>
              <a:gd name="adj1" fmla="val -76296"/>
              <a:gd name="adj2" fmla="val 1296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ОИВ-СБП подготавлива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оект РП РФ об изменении типа ФГУ по согласованию с Минфином России и МЭР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79237-9102-4370-9161-858390E57C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ГУ в целях создания бюджет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324000" y="2637000"/>
            <a:ext cx="3600360" cy="324000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ОИВ-СБ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б изменении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4643280" y="2349360"/>
            <a:ext cx="4105440" cy="4104000"/>
          </a:xfrm>
          <a:prstGeom prst="wedgeRoundRectCallout">
            <a:avLst>
              <a:gd name="adj1" fmla="val -76296"/>
              <a:gd name="adj2" fmla="val 1296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ФОИВ, осуществляющ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функции и полномочия учредителя подготавливае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ект правового акта ФОИВ-СБП об изменении типа ФГУ по согласованию 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488E-249E-45AC-950C-766A65DF40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ГУ в целях создания казенного или бюджет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24000" y="213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роекта правового акта об изменении тип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24000" y="292428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ояснительной записк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оекту правового акта об изменении тип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3789360"/>
            <a:ext cx="856908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Согласование проекта правового а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с Минфином России и МЭР России (если это РП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324000" y="4724280"/>
            <a:ext cx="8569080" cy="43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инятие правового акта об изменении тип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324000" y="537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Изменение Устав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324000" y="6093000"/>
            <a:ext cx="856908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Государственная регистрация соответствующих изме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4643280" y="2637000"/>
            <a:ext cx="0" cy="28728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4643280" y="357336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4643280" y="4508640"/>
            <a:ext cx="0" cy="215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4643280" y="515772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4643280" y="587700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094BA-0CAD-46F8-8CC6-C46B080E9F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ГУ в целях создания автоном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324000" y="2276640"/>
            <a:ext cx="3600360" cy="230328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ОИВ-СБ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б изменении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4643280" y="2349360"/>
            <a:ext cx="4105440" cy="3240360"/>
          </a:xfrm>
          <a:prstGeom prst="wedgeRoundRectCallout">
            <a:avLst>
              <a:gd name="adj1" fmla="val -74439"/>
              <a:gd name="adj2" fmla="val -24620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ИВ, осуществля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ункции и полномочия учредителя подготавли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предложение об изменении типа ФГУ по согласованию с МЭР России по инициативе либо с согласия учрежд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 flipH="1">
            <a:off x="3492360" y="3933720"/>
            <a:ext cx="1586160" cy="11509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250920" y="5013360"/>
            <a:ext cx="4176720" cy="165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Предложение дол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соответствовать требован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ФЗ «Об АУ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+  форме предлож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утверждаемой Правительством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45DD-2E91-4805-98B5-99323ACE37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24000" y="2637000"/>
            <a:ext cx="3600360" cy="324000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ОИВ-СБ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 ликвид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4643280" y="2349360"/>
            <a:ext cx="4105440" cy="3888000"/>
          </a:xfrm>
          <a:prstGeom prst="wedgeRoundRectCallout">
            <a:avLst>
              <a:gd name="adj1" fmla="val -76296"/>
              <a:gd name="adj2" fmla="val 4143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ОИВ, осуществляющ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ункции и полномочия учредителя подготавлива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оект правового акта ФОИВ-СБП о ликвидации ФГ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CFC8-C599-4067-A685-D76EB3E2D6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1042920" y="981000"/>
            <a:ext cx="7129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Проект постановления Правительства Российской Федерации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«Об утверждении порядка создания, реорганизации, изменения типа и ликвидации федеральных государственных учреждений, а также утверждения уставов федеральных государственных учреждений и внесения в них изменени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A9E2B-476C-4F1B-B0D7-77E9AD37F0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24000" y="2133720"/>
            <a:ext cx="8569080" cy="93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роекта правового акта о ликвид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24000" y="3573360"/>
            <a:ext cx="8569080" cy="935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ояснительной записк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оекту правового акта о ликвид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324000" y="5013360"/>
            <a:ext cx="8569080" cy="79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imes New Roman"/>
              </a:rPr>
              <a:t>Принятие правового акта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6600"/>
                </a:solidFill>
                <a:latin typeface="Times New Roman"/>
              </a:rPr>
              <a:t>ФОИВ-СБП о ликвид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4643280" y="3068640"/>
            <a:ext cx="0" cy="504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4643280" y="4508640"/>
            <a:ext cx="0" cy="504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8"/>
          <p:cNvSpPr/>
          <p:nvPr/>
        </p:nvSpPr>
        <p:spPr>
          <a:xfrm>
            <a:off x="6877080" y="6021360"/>
            <a:ext cx="1079640" cy="647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310CE-BA27-4E4D-B916-2C99ACADB5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116000" y="2133720"/>
            <a:ext cx="7128000" cy="93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ФОИВ (учреди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971640" y="3429000"/>
            <a:ext cx="7272360" cy="2448000"/>
          </a:xfrm>
          <a:prstGeom prst="wedgeRoundRectCallout">
            <a:avLst>
              <a:gd name="adj1" fmla="val -2717"/>
              <a:gd name="adj2" fmla="val -63166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доводит правовой акт ФОИВ-СБП до сведения регистрирующего орган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тверждает состав ликвидационной комисс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станавливает порядок и сроки ликвидации соответствующего Ф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6948360" y="6021360"/>
            <a:ext cx="1079640" cy="647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A4FC2-09FE-4426-B10F-A333EB0FC5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16000" y="2060640"/>
            <a:ext cx="7128000" cy="93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квидационная коми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971640" y="3429000"/>
            <a:ext cx="7272360" cy="2736720"/>
          </a:xfrm>
          <a:prstGeom prst="wedgeRoundRectCallout">
            <a:avLst>
              <a:gd name="adj1" fmla="val -1842"/>
              <a:gd name="adj2" fmla="val -65486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уществляет полномочия по управления делами ликвидируемого ФГ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дготавливает и представляет для утверждения ФОИВ (учредителю) промежуточный и окончательный ликвидационный балан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уществляет иные мероприятия по ликвидации ФГУ, предусмотренные законодательством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7885080" y="6021360"/>
            <a:ext cx="1079640" cy="647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6FC0-87A7-47AB-A51B-2AB3EFDDD8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539640" y="2205000"/>
            <a:ext cx="8209080" cy="1511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ередача имущества ФГУ, в том числе, оставшегося пос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довлетворения требований кредиторов, ФОИ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осуществляющему функции по управлению имуще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539640" y="4221000"/>
            <a:ext cx="8209080" cy="576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Закрытие лицевых счетов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539640" y="5300640"/>
            <a:ext cx="8209080" cy="936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несение записи в ЕГРЮЛ о прекращени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ответствующего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4643280" y="3716280"/>
            <a:ext cx="0" cy="504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4643280" y="4797360"/>
            <a:ext cx="0" cy="50328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EEF75-64F9-4398-BD5E-DFC665866E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Утверждение (изменение) устава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324000" y="2349360"/>
            <a:ext cx="4032000" cy="374364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ОИВ (учредител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б утвер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(изменен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4643280" y="2349360"/>
            <a:ext cx="4105440" cy="3888000"/>
          </a:xfrm>
          <a:prstGeom prst="wedgeRoundRectCallout">
            <a:avLst>
              <a:gd name="adj1" fmla="val -68870"/>
              <a:gd name="adj2" fmla="val 1532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оект правового акта ФОИВ (учредителя) об утверждении (изменении) Устава ФГУ согласовывается с Минфином Росс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ЭР Росс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ОИВ-СБ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E49AE-E034-42AF-9951-A195F02507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УСТАВ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КУ или БУ должен содерж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539640" y="2276640"/>
            <a:ext cx="8209080" cy="1081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Общие сведения об учреждении (наименование, ти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местонахождение, наименование учредител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бственника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539640" y="3645000"/>
            <a:ext cx="8209080" cy="863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труктуру, компетенцию органов управления, порядок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ормирования и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39640" y="4797360"/>
            <a:ext cx="8209080" cy="576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Исчерпывающий перечень видо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684360" y="5805360"/>
            <a:ext cx="180000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основн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деятель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2987640" y="5805360"/>
            <a:ext cx="180036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иных вид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деятель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5292720" y="5805360"/>
            <a:ext cx="331164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приносящей доходы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деятель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1619280" y="5373720"/>
            <a:ext cx="0" cy="431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3851280" y="5373720"/>
            <a:ext cx="0" cy="431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6948360" y="5373720"/>
            <a:ext cx="0" cy="431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CBCC-D70D-44D1-BA5F-A69C26AB1E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УСТАВ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КУ или БУ должен содерж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539640" y="2276640"/>
            <a:ext cx="8209080" cy="1081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рядок распоряжения имуществом, приобретен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КУ или БУ за счет доходов от приносящей до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539640" y="3573360"/>
            <a:ext cx="8209080" cy="863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рядок передачи КУ или БУ денежных средств НКО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качестве их учредителя или участ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539640" y="4724280"/>
            <a:ext cx="8209080" cy="79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рядок осуществления крупных сделок или сдел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 совершении которых имеется заинтерес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539640" y="5805360"/>
            <a:ext cx="8209080" cy="79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Запрет на совершение сделок, возможными последст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которых является обременение или отчуждение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F1AA9-A041-4DC4-8444-979B6B043B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280" y="692280"/>
            <a:ext cx="8209080" cy="81720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УСТАВ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КУ или БУ должен содерж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539640" y="2276640"/>
            <a:ext cx="8209080" cy="502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ложения об открытии лицевых с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468360" y="2997360"/>
            <a:ext cx="8209080" cy="86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ложения о ликвидации КУ или БУ и распоряж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бственником имуществом ликвидируемого 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539640" y="4797360"/>
            <a:ext cx="8209080" cy="79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казание на субсидиарную ответственность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 обязательствам 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539640" y="4076640"/>
            <a:ext cx="820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ведения о филиалах и представительст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D44F-4C09-4CE6-A0F8-A8851E7610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5"/>
          <p:cNvSpPr/>
          <p:nvPr/>
        </p:nvSpPr>
        <p:spPr>
          <a:xfrm>
            <a:off x="611280" y="1557360"/>
            <a:ext cx="2952720" cy="180036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Постано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Правитель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Р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539640" y="4221000"/>
            <a:ext cx="2952720" cy="180036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Действующ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уставы Ф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4284720" y="1700280"/>
            <a:ext cx="4174920" cy="1008000"/>
          </a:xfrm>
          <a:prstGeom prst="wedgeRoundRectCallout">
            <a:avLst>
              <a:gd name="adj1" fmla="val -72166"/>
              <a:gd name="adj2" fmla="val 52361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тупает в силу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января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>
            <a:off x="3995640" y="3645000"/>
            <a:ext cx="4608720" cy="2303280"/>
          </a:xfrm>
          <a:prstGeom prst="wedgeRoundRectCallout">
            <a:avLst>
              <a:gd name="adj1" fmla="val -66949"/>
              <a:gd name="adj2" fmla="val 30013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должны быть приведены в соответствие с требовани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П РФ и примерными устав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до 1 июня 201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9E488-B6BE-4E1D-ADBD-24BAB08783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1042920" y="1413000"/>
            <a:ext cx="7129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Проект постановления Правительства РФ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«О порядке отнесения имущества автономного или бюджетного учреждения к категории особо ценного движимого имуществ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E351-7847-4A83-8931-22E0A2C667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5"/>
          <p:cNvSpPr/>
          <p:nvPr/>
        </p:nvSpPr>
        <p:spPr>
          <a:xfrm>
            <a:off x="755640" y="765000"/>
            <a:ext cx="7561440" cy="1440000"/>
          </a:xfrm>
          <a:prstGeom prst="downArrowCallout">
            <a:avLst>
              <a:gd name="adj1" fmla="val 134837"/>
              <a:gd name="adj2" fmla="val 132126"/>
              <a:gd name="adj3" fmla="val 16616"/>
              <a:gd name="adj4" fmla="val 66667"/>
            </a:avLst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ЦЕЛИ РАЗРАБОТК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2637000"/>
            <a:ext cx="83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492280"/>
            <a:ext cx="8209080" cy="79236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реализации поло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Федерального закона от 8 мая 2010 г. № 83-Ф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539640" y="3645000"/>
            <a:ext cx="8209080" cy="79200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систематизация и объединение правовых нор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в едином подзаконном НП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39640" y="4797360"/>
            <a:ext cx="8280360" cy="165600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совершенствование и упрощение процед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создания, реорганизации, изменения тип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квидации и утверждения (изменения) устав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федеральных государственных учрежде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45AA8-FB03-4C36-8507-5A35A46F33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072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Структура полномочий органов публичной власти по установлению видов и перечней особо ценного движимого имущества автономных и бюджет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95280" y="2193840"/>
          <a:ext cx="8497800" cy="4087800"/>
        </p:xfrm>
        <a:graphic>
          <a:graphicData uri="http://schemas.openxmlformats.org/drawingml/2006/table">
            <a:tbl>
              <a:tblPr/>
              <a:tblGrid>
                <a:gridCol w="3957480"/>
                <a:gridCol w="454032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Полномоч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Орган публичной вла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тановление порядка отнесения имущества к категории особо ценного движимого имуществ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вительство Российской Федерац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во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по определению видов особо ценного движимого имуществ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еральные органы исполнительной власти (федеральные органы госвласти, руководство деятельностью которых осуществляет Президент РФ или Правительство РФ) – в отношении федеральных АУ и Б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шие исполнительные органы госвласти субъектов РФ – в отношении АУ и БУ субъекто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тные администрации – в отношении муниципальных АУ и БУ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еделение перечней особо ценного движимого имуществ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ы, осуществляющие функции и полномочия учредителей АУ и БУ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F6A8-3EB0-4C38-9E03-DEC460EAD3D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404280"/>
            <a:ext cx="8001000" cy="11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Определение видов особо ценного движимого имущества 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4000" y="1752480"/>
          <a:ext cx="8569080" cy="491040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Нормативное правовое регулирование до принятия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Нормативное правовое регулирование в связи с принятием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ы особо ценного движимого имущества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еделяются в порядке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устанавливаемом Правительством РФ (ФЗ от 3.11.2006 №174-ФЗ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еделены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федеральных АУ – Постановлением Правительства РФ от 31.05.2007 №337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АУ субъектов РФ – порядками, утвержденными высшими исполнительными органами госвласти субъектов РФ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муниципальных АУ – порядками, утвержденными местными администрациям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рядок отнесения имущества к особо ценному недвижимому – Правительство Р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ы особо ценного движимого имущества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могу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определять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федеральных АУ – федеральными органами исполнительной власти и органами государственной власти, руководство деятельностью которых осуществляет Президент РФ или Правительство РФ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АУ субъектов РФ – порядками, утвержденными высшими исполнительными органами госвласти субъектов РФ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муниципальных АУ – порядками, утвержденными местными администраци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D984-FADD-4353-8B06-D363EFDA57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Определение видов особо ценного движимого имущества бюджет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50920" y="1628640"/>
          <a:ext cx="8424720" cy="464508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Нормативное правовое регулирование до принятия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Нормативное правовое регулирование в связи с принятием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определялис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рядок отнесения имущества к особо ценному недвижимому – Правительство Р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ы особо ценного движимого имуществ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гут определять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федеральных БУ – федеральными органами исполнительной власти и органами государственной власти, руководство деятельностью которых осуществляет Президент РФ или Правительство РФ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БУ субъектов РФ – порядками, утвержденными высшими исполнительными органами госвласти субъектов РФ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муниципальных БУ – порядками, утвержденными местными администраци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AE080-A221-44B3-A182-387432084A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Критерии отнесения имущества автономных учреждений к категории особо ценного движимого 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0" y="1217520"/>
          <a:ext cx="9144000" cy="5640480"/>
        </p:xfrm>
        <a:graphic>
          <a:graphicData uri="http://schemas.openxmlformats.org/drawingml/2006/table">
            <a:tbl>
              <a:tblPr/>
              <a:tblGrid>
                <a:gridCol w="1490760"/>
                <a:gridCol w="3132000"/>
                <a:gridCol w="45212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Тип учрежд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Критерии до принятия ФЗ от 08.05.2010 № 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Критерии, устанавливаемые в соответствии с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втономное учрежд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ля федеральных АУ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мущество, без которого осуществление уставной деятельности существенно затруднен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алансовая стоимость которого превышает 500 тыс. рублей (ППРФ от 31.05.2007 №337 в ред. ППРФ от 05.08.2009 №639 – ранее 50 тыс.рублей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чуждение которого осуществляется в специальном порядке, установленном ФЗ и иными федеральными НП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ля АУ субъектов РФ и муниципальных АУ: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порядках, установленных высшими исполнительными органами госвласти субъектов РФ и органами МСУ с учетом требований ППРФ от 31.05.2007 №3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)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вижимое имущество, балансовая стоимость которого превыша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ФОИВом в интервале от 200 до 500 тысяч рублей – для федеральных автономных и бюджетных учрежде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НПА высшего исполнительного органа госвласти субъекта Российской Федерации  в интервале от 50 до 500 тысяч рублей, - для автономных и бюджетных учреждений субъекта РФ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правовым актом местной администрации в интервале от 50 до 200 тысяч рублей, - для муниципальных автономных и бюджетных учрежде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)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ое движимое имущество, без которого осуществление автономным или бюджетным учреждением своей основной деятельности будет существенно затруднено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) движимое имущество, отчуждение которого осуществляется в специальном порядке, установленном ФЗ и иными федеральными НПА (культурные ценности и др.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4F9CB-ECD1-4025-818F-33BF3AA606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Критерии отнесения имущества бюджетных учреждений к категории особо ценного движимого 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79280" y="1628640"/>
          <a:ext cx="8785440" cy="5072040"/>
        </p:xfrm>
        <a:graphic>
          <a:graphicData uri="http://schemas.openxmlformats.org/drawingml/2006/table">
            <a:tbl>
              <a:tblPr/>
              <a:tblGrid>
                <a:gridCol w="1581120"/>
                <a:gridCol w="2372040"/>
                <a:gridCol w="48322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Тип учрежд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Критерии до принятия ФЗ от 08.05.2010 № 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Критерии, устанавливаемые в соответствии с ФЗ от 08.05.2010 №83-Ф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ное учрежд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устанавливалис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)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вижимое имущество, балансовая стоимость которого превыша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ФОИВом в интервале от 200 до 500 тысяч рублей – для федеральных автономных и бюджетных учрежде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НПА высшего исполнительного органа госвласти субъекта Российской Федерации  в интервале от 50 до 500 тысяч рублей, - для автономных и бюджетных учреждений субъекта РФ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правовым актом местной администрации в интервале от 50 до 200 тысяч рублей, - для муниципальных автономных и бюджетных учрежде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)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ое движимое имущество, без которого осуществление автономным или бюджетным учреждением своей основной деятельности будет существенно затруднено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) движимое имущество, отчуждение которого осуществляется в специальном порядке, установленном ФЗ и иными федеральными НПА (культурные ценности и др.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DC06D-0281-46FA-8DEB-AE975F63C8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755640" y="692280"/>
            <a:ext cx="7561440" cy="1081080"/>
          </a:xfrm>
          <a:prstGeom prst="downArrowCallout">
            <a:avLst>
              <a:gd name="adj1" fmla="val 179603"/>
              <a:gd name="adj2" fmla="val 175991"/>
              <a:gd name="adj3" fmla="val 16616"/>
              <a:gd name="adj4" fmla="val 66667"/>
            </a:avLst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Действующее правовое регу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4000" y="1989000"/>
          <a:ext cx="8569080" cy="433260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СОЗД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П РФ от 10.02.2004 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ФЗ «Об АУ» (ст. 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П РФ от 24.12.2007 №9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П РФ от 28.05.2007 №325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РЕОРГА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П РФ от 10.02.2004 г. №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ФЗ «Об АУ» (ст. 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ИЗМЕНЕНИЕ ТИ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ЛИКВИД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орма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П РФ от 10.02.2004 г. №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орма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З «Об АУ» (ст. 1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ИЗМЕНЕНИЕ УСТ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орма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П РФ от 10.02.2004 г. №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орма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З «Об АУ» (ст.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91A1-FD83-437E-BAFC-ED6B31766A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9280" y="691920"/>
            <a:ext cx="8209080" cy="10310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Основные проблемы действующего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95280" y="2565360"/>
            <a:ext cx="8424720" cy="122400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Наличие правовых пробелов в вопросах регулир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процедур изменения типа и ликвидации БУ и А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утверждения (изменения) устав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95280" y="4221000"/>
            <a:ext cx="8424720" cy="57492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Низкая степень детализации процедурных нор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95280" y="5229360"/>
            <a:ext cx="8496360" cy="93492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Большое количество отсылочных и перекрестных нор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закрепленных в ведомственных акт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C897-D600-4FF3-84B0-D82894BD06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324000" y="907920"/>
            <a:ext cx="2808000" cy="2016360"/>
          </a:xfrm>
          <a:prstGeom prst="verticalScroll">
            <a:avLst>
              <a:gd name="adj" fmla="val 12500"/>
            </a:avLst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Про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постано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ocument"/>
          <p:cNvSpPr/>
          <p:nvPr/>
        </p:nvSpPr>
        <p:spPr>
          <a:xfrm>
            <a:off x="5651640" y="692280"/>
            <a:ext cx="3097080" cy="3457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00"/>
                </a:solidFill>
                <a:latin typeface="Times New Roman"/>
              </a:rPr>
              <a:t>Порядо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336600"/>
                </a:solidFill>
                <a:latin typeface="Times New Roman"/>
              </a:rPr>
              <a:t>создания, реорганизации, изменения типа, ликвидации ФГУ, а также утверждения уставов ФГУ и внесения в них изменений</a:t>
            </a:r>
            <a:r>
              <a:rPr b="0" lang="en-US" sz="19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059280" y="1628640"/>
            <a:ext cx="2449440" cy="865440"/>
          </a:xfrm>
          <a:prstGeom prst="rightArrow">
            <a:avLst>
              <a:gd name="adj1" fmla="val 50000"/>
              <a:gd name="adj2" fmla="val 7075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ТВЕРЖ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1332000" y="306864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24000" y="4221000"/>
            <a:ext cx="8640720" cy="252108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 Narrow"/>
              </a:rPr>
              <a:t>УТРАЧИВАЮТ СИ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П РФ от 10.02.2004 г. №7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О создании, реорганизации и ликвид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ых государственных учреждений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П РФ от 24.12.2007 г. №92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Об утверждении правил подгот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ложений о создании федеральных автономных учрежд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утем изменения типа существующих федер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осударственных учрежде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AF3D5-3678-4DB1-BFAB-8624AF5414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ocument"/>
          <p:cNvSpPr/>
          <p:nvPr/>
        </p:nvSpPr>
        <p:spPr>
          <a:xfrm>
            <a:off x="2484360" y="836640"/>
            <a:ext cx="3743280" cy="1800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распространяется на:</a:t>
            </a: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11280" y="3141720"/>
            <a:ext cx="2016000" cy="107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ОИВ - СБ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227640" y="3068640"/>
            <a:ext cx="2665440" cy="1655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ОИ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осуществля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ункци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лномоч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дителя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3348000" y="3933720"/>
            <a:ext cx="2087640" cy="1152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ед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каз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611280" y="5229360"/>
            <a:ext cx="2268360" cy="115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ед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бюдже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5796000" y="5300640"/>
            <a:ext cx="2268360" cy="1152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ед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автоном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1979640" y="2421000"/>
            <a:ext cx="792000" cy="720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4356000" y="2637000"/>
            <a:ext cx="0" cy="1296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 flipH="1">
            <a:off x="2555640" y="2637000"/>
            <a:ext cx="863640" cy="259236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6227640" y="2276640"/>
            <a:ext cx="1584360" cy="792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5435640" y="2637000"/>
            <a:ext cx="720720" cy="2663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5B14-DDEC-4DCB-AC10-691391D0FC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ocument"/>
          <p:cNvSpPr/>
          <p:nvPr/>
        </p:nvSpPr>
        <p:spPr>
          <a:xfrm>
            <a:off x="2484360" y="692280"/>
            <a:ext cx="3888000" cy="1584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остоит из следующих разделов:</a:t>
            </a: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324000" y="2565360"/>
            <a:ext cx="8569080" cy="574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Общи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324000" y="3284640"/>
            <a:ext cx="8569080" cy="574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здание федер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324000" y="4005360"/>
            <a:ext cx="8569080" cy="574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Реорганизация федер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324000" y="4724280"/>
            <a:ext cx="8569080" cy="57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Изменение типа федер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324000" y="5445000"/>
            <a:ext cx="8569080" cy="57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Ликвидация федер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324000" y="6165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тверждение (изменение) уставов федеральных учрежд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21CA5-15D5-4251-B111-E898B60466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39280" y="691920"/>
            <a:ext cx="8209080" cy="10310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Создание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324000" y="2852640"/>
            <a:ext cx="3600360" cy="280836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Распоря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ительства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 созд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4932360" y="2637000"/>
            <a:ext cx="3889440" cy="3671640"/>
          </a:xfrm>
          <a:prstGeom prst="wedgeRoundRectCallout">
            <a:avLst>
              <a:gd name="adj1" fmla="val -83305"/>
              <a:gd name="adj2" fmla="val 1449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ИВ-СБП подготавли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ект РП РФ о создании ФГУ по согласованию с Минфином России и МЭР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65CB-832C-49C3-8EF7-04F328D221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09:58:06Z</dcterms:created>
  <dc:creator>admcto</dc:creator>
  <dc:description/>
  <dc:language>en-US</dc:language>
  <cp:lastModifiedBy>admcto</cp:lastModifiedBy>
  <dcterms:modified xsi:type="dcterms:W3CDTF">2010-06-22T11:40:20Z</dcterms:modified>
  <cp:revision>5</cp:revision>
  <dc:subject/>
  <dc:title>Порядок создания реорганизации, изменения типа и ликвидации ФГУ и порядок отнесения к категории особо ценного движимого имущества государственного (муниципального) бюджетного или автономного учреждения</dc:title>
</cp:coreProperties>
</file>