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12193588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9E13-6752-444C-9070-74E523689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C482-219B-4A49-BBC0-B3E04E92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0FE2-97F2-4CD9-92CA-86C332906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39E5-A234-4DE8-BCBE-098D988BF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2B72-EB2C-4FA2-8FE6-E57B000E1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0235-C5B9-4C54-AA35-FFA3E761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FB22-AAAB-4C37-88CD-F1A92A0E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47C9-CC1E-4C58-A0E3-90BFED0A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4B09-23B1-43F3-934C-5246BCB6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BD89-5C70-4AE2-90FF-132A86B3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ACAD-69D8-482E-8043-109BFB9E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B83B-835C-420C-9A45-DF5206B2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C519-BE0C-4538-8EB5-8387BFE8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BECF-2DD1-4D29-9DA5-BA39D3F6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7C4F-A0A4-4236-B56B-2EE10C86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948A-7F4C-4F8F-A4B8-25B778192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B2AE-CE66-49A6-9263-AA441AB7C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0F3CE-82B5-406B-A939-DF5D1D2EE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AF709-CEC8-4136-92DB-77E3A3BE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B28D7-E242-4E96-82D9-5F07A730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012BB-4799-4DF3-B820-0BD9A675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FCA07-AD0C-482C-8C51-CC17B3B0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D419-3DB5-40F9-89BC-53014F64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8B16F-E30D-4A9B-B397-6EE020DA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FA59B-3B15-4A79-8BB4-5AD1855D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0A6E1-2587-4318-BE46-375978F0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0D535-3358-4B2C-A74E-FCFEC1E8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9EAFD-303C-48D8-B503-64233403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7F8D5-CD61-45AA-A8EF-2A1FD4659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8A4CF-D850-4D65-AC34-E08EF76D3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EDB9C-B117-42FD-928A-4D34B0DC1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50010-9C41-4D7E-9E46-FE24D697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00E26-1768-4E77-9779-54EB4A50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8D76-FE31-4CDF-80E4-39572099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55029-F2F9-42AE-9803-0D978DFF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52969-CB81-4066-9A1D-DD08CC3E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D645A-D9BD-4889-8D94-69BDA9B3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1AB46-F730-43E2-8DA7-AD94AD7C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22905-6D36-412D-A457-B715A085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D4754-C6FA-4955-A396-3077543C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0C8CE-607E-4680-B676-DE272091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0C079-C3CA-4C99-BEC2-07C8A33C7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CB4D5-DECC-46CC-A722-87E2D6E93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F861-69AB-4BB7-9BE8-A63CCC26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F4B6-8D0F-445F-9E10-4E2C3DE5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6C65-89C8-49E0-B84F-97793EE0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77A8-53A3-4A6A-BF48-3208C22A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6701-9E22-44E7-94D6-33B17F0B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749C-54E6-43E9-9A38-93789C0BF220}" type="slidenum">
              <a:rPr b="0" lang="ru-RU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5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Freeform 14"/>
            <p:cNvSpPr/>
            <p:nvPr/>
          </p:nvSpPr>
          <p:spPr>
            <a:xfrm>
              <a:off x="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8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traight Connector 19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Isosceles Triangle 22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Isosceles Triangle 26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344E-92B5-4FF7-A3C2-DD51A3030974}" type="slidenum">
              <a:rPr b="0" lang="ru-RU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00A0-0D34-400E-A150-C1D4CCA4B7D7}" type="slidenum">
              <a:rPr b="0" lang="ru-RU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1BFB-C331-409F-B9CA-386F72FBCD1A}" type="slidenum">
              <a:rPr b="0" lang="ru-RU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504720" y="1971720"/>
            <a:ext cx="1068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е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онного сове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администрации Петропавловск-Камчатского городского окру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5"/>
          <p:cNvSpPr/>
          <p:nvPr/>
        </p:nvSpPr>
        <p:spPr>
          <a:xfrm>
            <a:off x="2639880" y="6308640"/>
            <a:ext cx="62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Петропавловск-Камчат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5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герб_пнг"/>
          <p:cNvPicPr/>
          <p:nvPr/>
        </p:nvPicPr>
        <p:blipFill>
          <a:blip r:embed="rId1"/>
          <a:stretch/>
        </p:blipFill>
        <p:spPr>
          <a:xfrm>
            <a:off x="363600" y="318960"/>
            <a:ext cx="168264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2"/>
          <p:cNvSpPr/>
          <p:nvPr/>
        </p:nvSpPr>
        <p:spPr>
          <a:xfrm>
            <a:off x="163440" y="96840"/>
            <a:ext cx="1168560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тная группа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бщественный совещательный орган, созданный для проведения оценки результатов внедрения на территории Петропавловск-Камчатского городского округа успешных практик по развитию субъектов малого и среднего предпринимательства и снятия административных барьеров в муниципальных образования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гентства стратегических инициатив по продвижению новых проектов к составу экспертной группы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Формируется  из представителей объединений предпринимателей, членов региональных и местных общественных палат Российской Федерации, лиц, осуществляющих инвестиционную и предпринимательскую деятельность, и иных лиц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остав – не менее 5 человек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егламент создания деятельности экспертной группы утверждается организационно-распорядительным актом Агентств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рядок проведения общественной экспертизы результатов внедрения успешной практики устанавливается организационно-распорядительным актом Агентств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"/>
          <p:cNvSpPr/>
          <p:nvPr/>
        </p:nvSpPr>
        <p:spPr>
          <a:xfrm>
            <a:off x="288360" y="4302000"/>
            <a:ext cx="102132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я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нимаемые экспертной группой по результатам общественной экспертизы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шная практика внедрена полностью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шная практика внедрена частично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шная практика  не внедрен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2"/>
          <p:cNvSpPr/>
          <p:nvPr/>
        </p:nvSpPr>
        <p:spPr>
          <a:xfrm>
            <a:off x="-141120" y="5581800"/>
            <a:ext cx="118220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шная практика признается внедренной на территории городского округа при условии, что по результатам ведомственной оценки, и общественной экспертизы приняты решения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спешная практика внедрена полностью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3"/>
          <p:cNvSpPr/>
          <p:nvPr/>
        </p:nvSpPr>
        <p:spPr>
          <a:xfrm>
            <a:off x="693720" y="426960"/>
            <a:ext cx="12238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мые кандидатуры в состав экспертной группы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209520" y="1046160"/>
          <a:ext cx="11314080" cy="5121360"/>
        </p:xfrm>
        <a:graphic>
          <a:graphicData uri="http://schemas.openxmlformats.org/drawingml/2006/table">
            <a:tbl>
              <a:tblPr/>
              <a:tblGrid>
                <a:gridCol w="4262400"/>
                <a:gridCol w="7051680"/>
              </a:tblGrid>
              <a:tr h="428760">
                <a:tc>
                  <a:txBody>
                    <a:bodyPr lIns="45000" rIns="4500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карев Дмитрий Владимир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marL="457200"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й предприним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>
                  <a:txBody>
                    <a:bodyPr lIns="45000" rIns="4500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ильникова Елена Николае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marL="457200"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учебно-методического центра Ассоциации особо охраняемых природных территор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45000" rIns="4500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зьминицкий Сергей Борис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marL="457200"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зидент Торгово-промышленной пал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45000" rIns="4500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врентьев Борис Леонид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marL="457200"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по развитию ООО «Морской Траст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4640">
                <a:tc>
                  <a:txBody>
                    <a:bodyPr lIns="45000" rIns="4500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кушева Дарья Михайло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marL="457200"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ительный директор Камчатского регионального отделения «Опора Росси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3200">
                <a:tc>
                  <a:txBody>
                    <a:bodyPr lIns="45000" rIns="4500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кин Владимир Михайл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marL="457200"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лен Правления, председатель Экспертно-Консультационного комитета Камчатского регионального отделения «Российское Общество Оценщиков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8760">
                <a:tc>
                  <a:txBody>
                    <a:bodyPr lIns="45000" rIns="4500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ина Светлана Флюро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marL="457200"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Фонда поддержки малого и среднего бизнеса «Содружеств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4640">
                <a:tc>
                  <a:txBody>
                    <a:bodyPr lIns="45000" rIns="45000" tIns="0" bIns="0" anchor="t">
                      <a:noAutofit/>
                    </a:bodyPr>
                    <a:p>
                      <a:pPr marL="4572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ипина Виктория Евгенье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marL="457200"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яющий Камчатским филиалом ОАО СКБ Приморья «ПримСоцБанк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3"/>
          <p:cNvSpPr/>
          <p:nvPr/>
        </p:nvSpPr>
        <p:spPr>
          <a:xfrm>
            <a:off x="243000" y="2355840"/>
            <a:ext cx="11121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4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ние плана мероприятий «дорожной карты» по внедрению успешных практик, направленных на развитие и поддержку малого и среднего предпринимательства и снятие административных барьеров, в Петропавловск-Камчатском городском окру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"/>
          <p:cNvSpPr/>
          <p:nvPr/>
        </p:nvSpPr>
        <p:spPr>
          <a:xfrm>
            <a:off x="4859280" y="4834080"/>
            <a:ext cx="6388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 начальника Управления экономики администрации Петропавловск-Камчатского городского округа - начальник отдела инвестиций и мониторинга муниципальных программ Позднякова Евгения Серге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1"/>
          <p:cNvSpPr/>
          <p:nvPr/>
        </p:nvSpPr>
        <p:spPr>
          <a:xfrm>
            <a:off x="554040" y="506520"/>
            <a:ext cx="1082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лан мероприяти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– пошаговый План мероприятий (Дорожная карта) по внедрению успешных практик, определяющий согласованные по срокам действия органов администрации Петропавловск-Камчатского городского округа по внедрению успешных практ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2"/>
          <p:cNvSpPr/>
          <p:nvPr/>
        </p:nvSpPr>
        <p:spPr>
          <a:xfrm>
            <a:off x="554040" y="1193760"/>
            <a:ext cx="1082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лан мероприятий является единым документом, содержащим в себе мероприятия по всем направлениям с целью обеспечения их согласованности по порядку исполнения, срокам, исполнителям и, при необходимости, взаимному влиян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3"/>
          <p:cNvSpPr/>
          <p:nvPr/>
        </p:nvSpPr>
        <p:spPr>
          <a:xfrm>
            <a:off x="554040" y="2209680"/>
            <a:ext cx="1082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ект плана мероприятий разработан на основе принципов полноты информации и достаточности мероприятий для внедрения успешных практик и содержи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4"/>
          <p:cNvSpPr/>
          <p:nvPr/>
        </p:nvSpPr>
        <p:spPr>
          <a:xfrm>
            <a:off x="554040" y="2992320"/>
            <a:ext cx="10823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1) информацию о текущем состоянии в области внедряемой успешной практи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2) мероприятия по внедрению успешных практик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3) информацию об ответственных за внедрение успешной практики в целом и за выполнение отдельных мероприятий должностных лицах органов администрации Петропавловск-Камчатского городского округа, включающих ФИО и должност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4) начальные и конечные сроки выполнения мероприят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5) результаты выполнения мероприятий плана мероприят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6) планируемые целевые значения ключевых показателей эффективности меропри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с двумя скругленными противолежащими углами 4"/>
          <p:cNvSpPr/>
          <p:nvPr/>
        </p:nvSpPr>
        <p:spPr>
          <a:xfrm>
            <a:off x="830160" y="104760"/>
            <a:ext cx="10015560" cy="944640"/>
          </a:xfrm>
          <a:prstGeom prst="pie">
            <a:avLst/>
          </a:prstGeom>
          <a:solidFill>
            <a:srgbClr val="5fcbef"/>
          </a:solidFill>
          <a:ln cap="rnd" w="19080">
            <a:solidFill>
              <a:srgbClr val="1742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4261"/>
                </a:solidFill>
                <a:latin typeface="Times New Roman"/>
                <a:ea typeface="Times New Roman"/>
              </a:rPr>
              <a:t>Перечень муниципальных практик, которые планируется внедрить на территории Петропавловск-Камчатского городского окру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Скругленный прямоугольник 6"/>
          <p:cNvSpPr/>
          <p:nvPr/>
        </p:nvSpPr>
        <p:spPr>
          <a:xfrm>
            <a:off x="2603520" y="1630440"/>
            <a:ext cx="2266920" cy="1479600"/>
          </a:xfrm>
          <a:prstGeom prst="roundRect">
            <a:avLst>
              <a:gd name="adj" fmla="val 34444"/>
            </a:avLst>
          </a:prstGeom>
          <a:solidFill>
            <a:srgbClr val="dff5fc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комплекса нормативных актов, устанавливающих основные направления инвестиционной политики муниципального образования и развития малого и среднего предприниматель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Скругленный прямоугольник 9"/>
          <p:cNvSpPr/>
          <p:nvPr/>
        </p:nvSpPr>
        <p:spPr>
          <a:xfrm>
            <a:off x="7257960" y="1467000"/>
            <a:ext cx="1736640" cy="780840"/>
          </a:xfrm>
          <a:prstGeom prst="roundRect">
            <a:avLst>
              <a:gd name="adj" fmla="val 34444"/>
            </a:avLst>
          </a:prstGeom>
          <a:solidFill>
            <a:srgbClr val="dff5fc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ие стандартов качества предоставления муниципальных услуг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Скругленный прямоугольник 10"/>
          <p:cNvSpPr/>
          <p:nvPr/>
        </p:nvSpPr>
        <p:spPr>
          <a:xfrm>
            <a:off x="5076720" y="1546200"/>
            <a:ext cx="1919520" cy="1009800"/>
          </a:xfrm>
          <a:prstGeom prst="roundRect">
            <a:avLst>
              <a:gd name="adj" fmla="val 34444"/>
            </a:avLst>
          </a:prstGeom>
          <a:solidFill>
            <a:srgbClr val="dff5fc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сопровождения инвестиционных проектов по принципу «одного окна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Скругленный прямоугольник 24"/>
          <p:cNvSpPr/>
          <p:nvPr/>
        </p:nvSpPr>
        <p:spPr>
          <a:xfrm>
            <a:off x="9674280" y="1187280"/>
            <a:ext cx="2516040" cy="1922760"/>
          </a:xfrm>
          <a:prstGeom prst="roundRect">
            <a:avLst>
              <a:gd name="adj" fmla="val 34444"/>
            </a:avLst>
          </a:prstGeom>
          <a:solidFill>
            <a:srgbClr val="dff5fc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системы оценки регулирующего воздействия проектов муниципальных нормативных правовых актов и экспертизы действующих муниципальных нормативных правовых актов, регулирующих вопросы, связанные с осуществлением предпринимательской деятель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Скругленный прямоугольник 42"/>
          <p:cNvSpPr/>
          <p:nvPr/>
        </p:nvSpPr>
        <p:spPr>
          <a:xfrm>
            <a:off x="4784760" y="2762280"/>
            <a:ext cx="2503440" cy="1384200"/>
          </a:xfrm>
          <a:prstGeom prst="roundRect">
            <a:avLst>
              <a:gd name="adj" fmla="val 34444"/>
            </a:avLst>
          </a:prstGeom>
          <a:solidFill>
            <a:srgbClr val="dff5fc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специализированного интернет-ресурса муниципального образования об инвестиционной деятельности, обеспечивающего канал прямой связи органов местного самоуправления с инвесторам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Скругленный прямоугольник 43"/>
          <p:cNvSpPr/>
          <p:nvPr/>
        </p:nvSpPr>
        <p:spPr>
          <a:xfrm>
            <a:off x="2522520" y="3463920"/>
            <a:ext cx="2497320" cy="1728720"/>
          </a:xfrm>
          <a:prstGeom prst="roundRect">
            <a:avLst>
              <a:gd name="adj" fmla="val 34444"/>
            </a:avLst>
          </a:prstGeom>
          <a:solidFill>
            <a:srgbClr val="dff5fc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ие и публикация ежегодно обновляемого плана создания объектов необходимой для инвесторов инфраструктуры в муниципальном образовании и порядка предоставления информации для размещения на Инвестиционной карте субъекта Российской Федера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Скругленный прямоугольник 45"/>
          <p:cNvSpPr/>
          <p:nvPr/>
        </p:nvSpPr>
        <p:spPr>
          <a:xfrm>
            <a:off x="7442280" y="2325600"/>
            <a:ext cx="2386080" cy="1746360"/>
          </a:xfrm>
          <a:prstGeom prst="roundRect">
            <a:avLst>
              <a:gd name="adj" fmla="val 34444"/>
            </a:avLst>
          </a:prstGeom>
          <a:solidFill>
            <a:srgbClr val="dff5fc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системы информационной и консультационной поддержки и популяризация предпринимательской деятельности, в том числе на базе многофункциональных центров предоставления государственных и муниципальных услуг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Скругленный прямоугольник 37"/>
          <p:cNvSpPr/>
          <p:nvPr/>
        </p:nvSpPr>
        <p:spPr>
          <a:xfrm>
            <a:off x="401760" y="1438200"/>
            <a:ext cx="2055600" cy="993960"/>
          </a:xfrm>
          <a:prstGeom prst="roundRect">
            <a:avLst>
              <a:gd name="adj" fmla="val 34444"/>
            </a:avLst>
          </a:prstGeom>
          <a:solidFill>
            <a:srgbClr val="dff5fc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, актуализация и размещение в открытом доступе инвестиционного паспорта муниципального образов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Скругленный прямоугольник 38"/>
          <p:cNvSpPr/>
          <p:nvPr/>
        </p:nvSpPr>
        <p:spPr>
          <a:xfrm>
            <a:off x="165240" y="2692440"/>
            <a:ext cx="2082600" cy="1133280"/>
          </a:xfrm>
          <a:prstGeom prst="roundRect">
            <a:avLst>
              <a:gd name="adj" fmla="val 34444"/>
            </a:avLst>
          </a:prstGeom>
          <a:solidFill>
            <a:srgbClr val="dff5fc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годное инвестиционное послание Главы муниципального образования с принятием инвестиционной деклара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Скругленный прямоугольник 39"/>
          <p:cNvSpPr/>
          <p:nvPr/>
        </p:nvSpPr>
        <p:spPr>
          <a:xfrm>
            <a:off x="7689960" y="4165560"/>
            <a:ext cx="2415960" cy="1359000"/>
          </a:xfrm>
          <a:prstGeom prst="roundRect">
            <a:avLst>
              <a:gd name="adj" fmla="val 34444"/>
            </a:avLst>
          </a:prstGeom>
          <a:solidFill>
            <a:srgbClr val="dff5fc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рофессиональной подготовки и переподготовки должностных лиц, ответственных за привлечение инвестиций и поддержку предприниматель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Скругленный прямоугольник 40"/>
          <p:cNvSpPr/>
          <p:nvPr/>
        </p:nvSpPr>
        <p:spPr>
          <a:xfrm>
            <a:off x="5116680" y="4340160"/>
            <a:ext cx="2396880" cy="1736640"/>
          </a:xfrm>
          <a:prstGeom prst="roundRect">
            <a:avLst>
              <a:gd name="adj" fmla="val 34444"/>
            </a:avLst>
          </a:prstGeom>
          <a:solidFill>
            <a:srgbClr val="dff5fc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мероприятий по сокращению сроков и финансовых затрат на прохождение разрешительных процедур в сфере земельных отношений и строительства при реализации инвестиционных проектов на территории муниципальных образован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Скругленный прямоугольник 44"/>
          <p:cNvSpPr/>
          <p:nvPr/>
        </p:nvSpPr>
        <p:spPr>
          <a:xfrm>
            <a:off x="165240" y="4071960"/>
            <a:ext cx="2349360" cy="1251000"/>
          </a:xfrm>
          <a:prstGeom prst="roundRect">
            <a:avLst>
              <a:gd name="adj" fmla="val 34444"/>
            </a:avLst>
          </a:prstGeom>
          <a:solidFill>
            <a:srgbClr val="dff5fc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и обеспечение деятельности общественного совета по улучшению инвестиционного климата и развитию предпринимательства при Главе муниципального образов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Скругленный прямоугольник 46"/>
          <p:cNvSpPr/>
          <p:nvPr/>
        </p:nvSpPr>
        <p:spPr>
          <a:xfrm>
            <a:off x="2760840" y="5719680"/>
            <a:ext cx="1954080" cy="965160"/>
          </a:xfrm>
          <a:prstGeom prst="roundRect">
            <a:avLst>
              <a:gd name="adj" fmla="val 34444"/>
            </a:avLst>
          </a:prstGeom>
          <a:solidFill>
            <a:srgbClr val="dff5fc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доступной инфраструктуры для размещения производственных и иных объектов инвестор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Скругленный прямоугольник 17"/>
          <p:cNvSpPr/>
          <p:nvPr/>
        </p:nvSpPr>
        <p:spPr>
          <a:xfrm>
            <a:off x="10102680" y="3506760"/>
            <a:ext cx="2006640" cy="1027080"/>
          </a:xfrm>
          <a:prstGeom prst="roundRect">
            <a:avLst>
              <a:gd name="adj" fmla="val 34444"/>
            </a:avLst>
          </a:prstGeom>
          <a:solidFill>
            <a:srgbClr val="dff5fc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ие процедуры реализации проектов с использованием механизма муниципально-частного партнер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Скругленный прямоугольник 18"/>
          <p:cNvSpPr/>
          <p:nvPr/>
        </p:nvSpPr>
        <p:spPr>
          <a:xfrm>
            <a:off x="9448920" y="5653080"/>
            <a:ext cx="2660400" cy="1174680"/>
          </a:xfrm>
          <a:prstGeom prst="roundRect">
            <a:avLst>
              <a:gd name="adj" fmla="val 34444"/>
            </a:avLst>
          </a:prstGeom>
          <a:solidFill>
            <a:srgbClr val="dff5fc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системы управления земельно-имущественным комплексом, соответствующей инвестиционным приоритетам муниципального образов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Скругленный прямоугольник 21"/>
          <p:cNvSpPr/>
          <p:nvPr/>
        </p:nvSpPr>
        <p:spPr>
          <a:xfrm>
            <a:off x="95400" y="5576760"/>
            <a:ext cx="2349360" cy="1251000"/>
          </a:xfrm>
          <a:prstGeom prst="roundRect">
            <a:avLst>
              <a:gd name="adj" fmla="val 34444"/>
            </a:avLst>
          </a:prstGeom>
          <a:solidFill>
            <a:srgbClr val="dff5fc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обоснованных эффективных ставок земельного налога и арендной платы за земельные участки для приоритетных категорий плательщик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243000" y="2355840"/>
            <a:ext cx="11121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5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ние проекта плана работы Инвестиционного совета при администрации Петропавловск-Камчатского городского округа на 2016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859280" y="4834080"/>
            <a:ext cx="638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 Главы администрации Петропавловск-Камчатского городского округа Кукиль Олег Николае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"/>
          <p:cNvSpPr/>
          <p:nvPr/>
        </p:nvSpPr>
        <p:spPr>
          <a:xfrm>
            <a:off x="392040" y="2095560"/>
            <a:ext cx="1180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1703" descr=""/>
          <p:cNvPicPr/>
          <p:nvPr/>
        </p:nvPicPr>
        <p:blipFill>
          <a:blip r:embed="rId1"/>
          <a:stretch/>
        </p:blipFill>
        <p:spPr>
          <a:xfrm>
            <a:off x="4576680" y="3324240"/>
            <a:ext cx="300996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3"/>
          <p:cNvSpPr/>
          <p:nvPr/>
        </p:nvSpPr>
        <p:spPr>
          <a:xfrm>
            <a:off x="279360" y="1568520"/>
            <a:ext cx="11122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1: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ссмотрение вопроса о сопровождении инвестиционного проекта по производству готовых строительных изделий из бетона, цемента и искусственного камня в администрации Петропавловск-Камчатского городского окр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4"/>
          <p:cNvSpPr/>
          <p:nvPr/>
        </p:nvSpPr>
        <p:spPr>
          <a:xfrm>
            <a:off x="5840280" y="4589640"/>
            <a:ext cx="63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райников Вадим Владимиро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204840" y="97920"/>
            <a:ext cx="123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964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изводство готовых строительных изделий из бетона, цемента и искусственного камня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4"/>
          <p:cNvSpPr/>
          <p:nvPr/>
        </p:nvSpPr>
        <p:spPr>
          <a:xfrm>
            <a:off x="295200" y="3745080"/>
            <a:ext cx="5153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окупаемости проект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ка дисконтирования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7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98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лн. руб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,79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нтабельность проекта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5"/>
          <p:cNvSpPr/>
          <p:nvPr/>
        </p:nvSpPr>
        <p:spPr>
          <a:xfrm>
            <a:off x="4289400" y="739800"/>
            <a:ext cx="790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ь проект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ткрытие производственного комплекса по изготовлению строительных изделий методом гиперпрессования (бордюрные камни, лего-блоки, камни стеновые, камни перегородочные, тротуарные плитки, кирпич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9"/>
          <p:cNvSpPr/>
          <p:nvPr/>
        </p:nvSpPr>
        <p:spPr>
          <a:xfrm>
            <a:off x="4405320" y="2668680"/>
            <a:ext cx="72406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проекта 4,7 млн. рубл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я инвестировани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конструкция здания – 3 млн. рубле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купка оборудования – 1,7 млн. рубл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0"/>
          <p:cNvSpPr/>
          <p:nvPr/>
        </p:nvSpPr>
        <p:spPr>
          <a:xfrm>
            <a:off x="4289400" y="2116080"/>
            <a:ext cx="7240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ициатор проект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ОО «ЛАМРОК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6"/>
          <p:cNvSpPr/>
          <p:nvPr/>
        </p:nvSpPr>
        <p:spPr>
          <a:xfrm>
            <a:off x="295200" y="6051600"/>
            <a:ext cx="1123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ctr" pos="144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еализации проекта предлагаются объекты недвижимости, расположенные по ул. Высот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ctr" pos="144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13" descr="http://city.stroytec.ru/img/brick/130.png"/>
          <p:cNvPicPr/>
          <p:nvPr/>
        </p:nvPicPr>
        <p:blipFill>
          <a:blip r:embed="rId1"/>
          <a:stretch/>
        </p:blipFill>
        <p:spPr>
          <a:xfrm>
            <a:off x="119160" y="890640"/>
            <a:ext cx="1780920" cy="134280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15" descr="http://city.stroytec.ru/img/brick/151.png"/>
          <p:cNvPicPr/>
          <p:nvPr/>
        </p:nvPicPr>
        <p:blipFill>
          <a:blip r:embed="rId2"/>
          <a:stretch/>
        </p:blipFill>
        <p:spPr>
          <a:xfrm>
            <a:off x="2124000" y="903240"/>
            <a:ext cx="1781280" cy="134316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22" descr="http://city.stroytec.ru/uploads/manual/s000-0.jpg"/>
          <p:cNvPicPr/>
          <p:nvPr/>
        </p:nvPicPr>
        <p:blipFill>
          <a:blip r:embed="rId3"/>
          <a:stretch/>
        </p:blipFill>
        <p:spPr>
          <a:xfrm>
            <a:off x="184320" y="224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48" descr="http://city.stroytec.ru/uploads/manual/491.2.3%D0%93%20%281%29.jpg"/>
          <p:cNvPicPr/>
          <p:nvPr/>
        </p:nvPicPr>
        <p:blipFill>
          <a:blip r:embed="rId4"/>
          <a:stretch/>
        </p:blipFill>
        <p:spPr>
          <a:xfrm>
            <a:off x="6834240" y="4281480"/>
            <a:ext cx="1781280" cy="134316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58" descr="http://city.stroytec.ru/img/lego-brick-1.png"/>
          <p:cNvPicPr/>
          <p:nvPr/>
        </p:nvPicPr>
        <p:blipFill>
          <a:blip r:embed="rId5"/>
          <a:stretch/>
        </p:blipFill>
        <p:spPr>
          <a:xfrm>
            <a:off x="8955000" y="4559400"/>
            <a:ext cx="2095560" cy="112392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11" descr="http://city.stroytec.ru/img/brick/109.png"/>
          <p:cNvPicPr/>
          <p:nvPr/>
        </p:nvPicPr>
        <p:blipFill>
          <a:blip r:embed="rId6"/>
          <a:stretch/>
        </p:blipFill>
        <p:spPr>
          <a:xfrm>
            <a:off x="2278080" y="2274840"/>
            <a:ext cx="178128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1" descr="http://mainavi.ru/upload/iart/giperpressovannyj-kirpich/3.jpg"/>
          <p:cNvPicPr/>
          <p:nvPr/>
        </p:nvPicPr>
        <p:blipFill>
          <a:blip r:embed="rId1"/>
          <a:stretch/>
        </p:blipFill>
        <p:spPr>
          <a:xfrm>
            <a:off x="565200" y="409680"/>
            <a:ext cx="3881520" cy="296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0" name=""/>
          <p:cNvGraphicFramePr/>
          <p:nvPr/>
        </p:nvGraphicFramePr>
        <p:xfrm>
          <a:off x="4446720" y="1455840"/>
          <a:ext cx="7159320" cy="1468440"/>
        </p:xfrm>
        <a:graphic>
          <a:graphicData uri="http://schemas.openxmlformats.org/drawingml/2006/table">
            <a:tbl>
              <a:tblPr/>
              <a:tblGrid>
                <a:gridCol w="1963440"/>
                <a:gridCol w="1567080"/>
                <a:gridCol w="1760400"/>
                <a:gridCol w="1868400"/>
              </a:tblGrid>
              <a:tr h="577800">
                <a:tc>
                  <a:txBody>
                    <a:bodyPr lIns="8280" rIns="8280" tIns="8280" bIns="8280" anchor="b">
                      <a:noAutofit/>
                    </a:bodyPr>
                    <a:p>
                      <a:pPr marL="7920"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кирпич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b">
                      <a:noAutofit/>
                    </a:bodyPr>
                    <a:p>
                      <a:pPr marL="7920"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ность при сжатии, кг/см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b">
                      <a:noAutofit/>
                    </a:bodyPr>
                    <a:p>
                      <a:pPr marL="7920"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озостойкость, цик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b">
                      <a:noAutofit/>
                    </a:bodyPr>
                    <a:p>
                      <a:pPr marL="7920"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проводность, Вт/м 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6640">
                <a:tc>
                  <a:txBody>
                    <a:bodyPr lIns="8280" rIns="8280" tIns="8280" bIns="8280" anchor="b">
                      <a:noAutofit/>
                    </a:bodyPr>
                    <a:p>
                      <a:pPr marL="7920">
                        <a:lnSpc>
                          <a:spcPct val="115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рам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b">
                      <a:noAutofit/>
                    </a:bodyPr>
                    <a:p>
                      <a:pPr marL="7920" algn="ctr">
                        <a:lnSpc>
                          <a:spcPct val="115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b">
                      <a:noAutofit/>
                    </a:bodyPr>
                    <a:p>
                      <a:pPr marL="7920" algn="ctr">
                        <a:lnSpc>
                          <a:spcPct val="115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b">
                      <a:noAutofit/>
                    </a:bodyPr>
                    <a:p>
                      <a:pPr marL="7920" algn="ctr">
                        <a:lnSpc>
                          <a:spcPct val="115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8-0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7000">
                <a:tc>
                  <a:txBody>
                    <a:bodyPr lIns="8280" rIns="8280" tIns="8280" bIns="8280" anchor="b">
                      <a:noAutofit/>
                    </a:bodyPr>
                    <a:p>
                      <a:pPr marL="7920">
                        <a:lnSpc>
                          <a:spcPct val="115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икат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b">
                      <a:noAutofit/>
                    </a:bodyPr>
                    <a:p>
                      <a:pPr marL="7920" algn="ctr">
                        <a:lnSpc>
                          <a:spcPct val="115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-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b">
                      <a:noAutofit/>
                    </a:bodyPr>
                    <a:p>
                      <a:pPr marL="7920" algn="ctr">
                        <a:lnSpc>
                          <a:spcPct val="115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b">
                      <a:noAutofit/>
                    </a:bodyPr>
                    <a:p>
                      <a:pPr marL="7920" algn="ctr">
                        <a:lnSpc>
                          <a:spcPct val="115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6-0,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7000">
                <a:tc>
                  <a:txBody>
                    <a:bodyPr lIns="8280" rIns="8280" tIns="8280" bIns="8280" anchor="b">
                      <a:noAutofit/>
                    </a:bodyPr>
                    <a:p>
                      <a:pPr marL="7920">
                        <a:lnSpc>
                          <a:spcPct val="115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прессова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b">
                      <a:noAutofit/>
                    </a:bodyPr>
                    <a:p>
                      <a:pPr marL="7920" algn="ctr">
                        <a:lnSpc>
                          <a:spcPct val="115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-300 и выш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b">
                      <a:noAutofit/>
                    </a:bodyPr>
                    <a:p>
                      <a:pPr marL="7920" algn="ctr">
                        <a:lnSpc>
                          <a:spcPct val="115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-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b">
                      <a:noAutofit/>
                    </a:bodyPr>
                    <a:p>
                      <a:pPr marL="7920" algn="ctr">
                        <a:lnSpc>
                          <a:spcPct val="115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0-0,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Прямоугольник 2"/>
          <p:cNvSpPr/>
          <p:nvPr/>
        </p:nvSpPr>
        <p:spPr>
          <a:xfrm>
            <a:off x="4782960" y="498600"/>
            <a:ext cx="60962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льная характеристика основных показателей лицевого кирпича различных ви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3"/>
          <p:cNvSpPr/>
          <p:nvPr/>
        </p:nvSpPr>
        <p:spPr>
          <a:xfrm>
            <a:off x="336600" y="3511440"/>
            <a:ext cx="64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сферы применения гиперпрессованных издели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4"/>
          <p:cNvSpPr/>
          <p:nvPr/>
        </p:nvSpPr>
        <p:spPr>
          <a:xfrm>
            <a:off x="316080" y="3887640"/>
            <a:ext cx="117471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оэтажное строительство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оративное приме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ндшафтное применени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этажное строитель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Рисунок 4" descr="http://mainavi.ru/upload/iart/giperpressovannyj-kirpich/5.jpg"/>
          <p:cNvPicPr/>
          <p:nvPr/>
        </p:nvPicPr>
        <p:blipFill>
          <a:blip r:embed="rId2"/>
          <a:stretch/>
        </p:blipFill>
        <p:spPr>
          <a:xfrm>
            <a:off x="4222800" y="4014720"/>
            <a:ext cx="536724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3"/>
          <p:cNvSpPr/>
          <p:nvPr/>
        </p:nvSpPr>
        <p:spPr>
          <a:xfrm>
            <a:off x="468360" y="1335240"/>
            <a:ext cx="11723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2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 об исполнении «дорожной карты» органов администрации Петропавловск-Камчатского городского округа по определению и внедрению механизма формирования благоприятного инвестиционного климата и развития межрегиональных отношений и международных связей Петропавловск-Камчатского городского округа в приоритетных отраслях экономики за 2015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5438880" y="5226120"/>
            <a:ext cx="6387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 начальника Управления экономики администрации Петропавловск-Камчатского городского округа - начальник отдела инвестиций и мониторинга муниципальных программ Позднякова Евгения Серге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3" descr=""/>
          <p:cNvPicPr/>
          <p:nvPr/>
        </p:nvPicPr>
        <p:blipFill>
          <a:blip r:embed="rId1"/>
          <a:stretch/>
        </p:blipFill>
        <p:spPr>
          <a:xfrm>
            <a:off x="0" y="3909960"/>
            <a:ext cx="2924280" cy="239400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5" descr=""/>
          <p:cNvPicPr/>
          <p:nvPr/>
        </p:nvPicPr>
        <p:blipFill>
          <a:blip r:embed="rId2"/>
          <a:stretch/>
        </p:blipFill>
        <p:spPr>
          <a:xfrm>
            <a:off x="9291600" y="5056200"/>
            <a:ext cx="2452680" cy="160488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7" descr=""/>
          <p:cNvPicPr/>
          <p:nvPr/>
        </p:nvPicPr>
        <p:blipFill>
          <a:blip r:embed="rId3"/>
          <a:stretch/>
        </p:blipFill>
        <p:spPr>
          <a:xfrm>
            <a:off x="0" y="162000"/>
            <a:ext cx="4782960" cy="341640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8"/>
          <p:cNvSpPr/>
          <p:nvPr/>
        </p:nvSpPr>
        <p:spPr>
          <a:xfrm>
            <a:off x="4330800" y="317520"/>
            <a:ext cx="729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Переработка битумосодержащих от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уть инвестиционного проекта: создание комплекса по переработке отходов битум содержащих кровельных материалов, с выпуском новых кровельных материалов, стандартного битумного сырья и связанных с ним товарных продуктов в цепи рециклин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11"/>
          <p:cNvSpPr/>
          <p:nvPr/>
        </p:nvSpPr>
        <p:spPr>
          <a:xfrm>
            <a:off x="4782960" y="1712880"/>
            <a:ext cx="7312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полагаемый объем инвестиций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3 172,736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ысяч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казатели финансовой эффективности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истая приведенная стоимость (NPV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5 362,84943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ысяч рубл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утренняя норма прибыли (IRR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7,1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декс рентабельности (PI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,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иод окупаемости (P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,7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вка дисконтировани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4,7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12"/>
          <p:cNvSpPr/>
          <p:nvPr/>
        </p:nvSpPr>
        <p:spPr>
          <a:xfrm>
            <a:off x="2924280" y="3598920"/>
            <a:ext cx="910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Переработка Т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уть инвестиционного проекта: строительство современного высокотехнологического Комбината по утилизации и переработке твердых бытовых отходов по технологии каталитической деполимеризации с производством синтетического жидкого печного топлива по ГОСТ 10585-2013, что позволит исключить вывоз мусора на полигоны (свалки), получить максимальный выход продукции в виде товарных продук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13"/>
          <p:cNvSpPr/>
          <p:nvPr/>
        </p:nvSpPr>
        <p:spPr>
          <a:xfrm>
            <a:off x="2924280" y="5322960"/>
            <a:ext cx="6680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полагаемый объем инвестиций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16 017,0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ысяч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казатели финансовой эффективности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истая приведенная стоимость (NPV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79 839,0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ысяч рубл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утренняя норма прибыли (IRR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9,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иод окупаемости (P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4,6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Рисунок 1" descr=""/>
          <p:cNvPicPr/>
          <p:nvPr/>
        </p:nvPicPr>
        <p:blipFill>
          <a:blip r:embed="rId1"/>
          <a:stretch/>
        </p:blipFill>
        <p:spPr>
          <a:xfrm>
            <a:off x="0" y="112680"/>
            <a:ext cx="4667400" cy="295272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2" descr=""/>
          <p:cNvPicPr/>
          <p:nvPr/>
        </p:nvPicPr>
        <p:blipFill>
          <a:blip r:embed="rId2"/>
          <a:stretch/>
        </p:blipFill>
        <p:spPr>
          <a:xfrm>
            <a:off x="6297480" y="3325680"/>
            <a:ext cx="5202360" cy="297828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3"/>
          <p:cNvSpPr/>
          <p:nvPr/>
        </p:nvSpPr>
        <p:spPr>
          <a:xfrm>
            <a:off x="4667400" y="112680"/>
            <a:ext cx="679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Развитие торговой сети местных товаропроизв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уть инвестиционного проекта: строительство здания сельскохозяйственного рынка и благоустройство прилегающей терри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5"/>
          <p:cNvSpPr/>
          <p:nvPr/>
        </p:nvSpPr>
        <p:spPr>
          <a:xfrm>
            <a:off x="4589640" y="1314360"/>
            <a:ext cx="6419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полагаемый объем инвестиций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415 000,0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ысяч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казатели финансовой эффективности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истая приведенная стоимость (NPV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4 143,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тысяч рубл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утренняя норма прибыли (IRR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декс рентабельности (PI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,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иод окупаемости (P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4,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вка дисконтировани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6"/>
          <p:cNvSpPr/>
          <p:nvPr/>
        </p:nvSpPr>
        <p:spPr>
          <a:xfrm>
            <a:off x="201600" y="34290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Развитие туристской отра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уть инвестиционного проекта: создание на берегу природного Култучного озера зоны отдыха с ресторанным комплекс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7"/>
          <p:cNvSpPr/>
          <p:nvPr/>
        </p:nvSpPr>
        <p:spPr>
          <a:xfrm>
            <a:off x="201600" y="4589640"/>
            <a:ext cx="6095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полагаемый объем инвестиций боле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00 000,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тысяч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ициатору проекта выдано разрешение на проведение инженерных изыск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вместно с АО «Корпорация развития Камчатского края» ведется работа по разработке бизнес-плана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анируемый срок ввода в эксплуатацию 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01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2"/>
          <p:cNvSpPr/>
          <p:nvPr/>
        </p:nvSpPr>
        <p:spPr>
          <a:xfrm>
            <a:off x="858960" y="128520"/>
            <a:ext cx="1150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Инвестиционный проек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уристический комплекс «Петровская соп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4"/>
          <p:cNvSpPr/>
          <p:nvPr/>
        </p:nvSpPr>
        <p:spPr>
          <a:xfrm>
            <a:off x="5621400" y="2454120"/>
            <a:ext cx="650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еализации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.  инженерные изыск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7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.  подготовка ПСД, бизнес-плана и ТЭО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г.  строительство и ввод в эксплуата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5"/>
          <p:cNvSpPr/>
          <p:nvPr/>
        </p:nvSpPr>
        <p:spPr>
          <a:xfrm>
            <a:off x="5657760" y="1461960"/>
            <a:ext cx="483552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bIns="720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территории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инвестиций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рд. руб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окупаемости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itle 10"/>
          <p:cNvSpPr/>
          <p:nvPr/>
        </p:nvSpPr>
        <p:spPr>
          <a:xfrm>
            <a:off x="341280" y="566640"/>
            <a:ext cx="115063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ь проекта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здание круглогодичного туристического комплекса, связывающего портовую зону и основную курортную территорию на естественном горном ландшаф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Рисунок 9" descr=""/>
          <p:cNvPicPr/>
          <p:nvPr/>
        </p:nvPicPr>
        <p:blipFill>
          <a:blip r:embed="rId1"/>
          <a:stretch/>
        </p:blipFill>
        <p:spPr>
          <a:xfrm>
            <a:off x="522360" y="4086360"/>
            <a:ext cx="4886280" cy="265248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10" descr=""/>
          <p:cNvPicPr/>
          <p:nvPr/>
        </p:nvPicPr>
        <p:blipFill>
          <a:blip r:embed="rId2"/>
          <a:stretch/>
        </p:blipFill>
        <p:spPr>
          <a:xfrm>
            <a:off x="522360" y="1352520"/>
            <a:ext cx="4886280" cy="253836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10"/>
          <p:cNvSpPr/>
          <p:nvPr/>
        </p:nvSpPr>
        <p:spPr>
          <a:xfrm>
            <a:off x="6203880" y="3967200"/>
            <a:ext cx="8383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стиничный комплекс (900 мес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лекательный компле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уристический визит и информационный цент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натные дорог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крытые и закрытые спортивные площа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ттеджный поселок (шале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рнолыжные тра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асс для беговых лы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лодор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ейт-,сноуборд па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3"/>
          <p:cNvSpPr/>
          <p:nvPr/>
        </p:nvSpPr>
        <p:spPr>
          <a:xfrm>
            <a:off x="243000" y="2355840"/>
            <a:ext cx="11121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3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ние предложений о кандидатурах в состав экспертной группы по вопросам проведения общественной оценки результатов внедрения успешных практ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3"/>
          <p:cNvSpPr/>
          <p:nvPr/>
        </p:nvSpPr>
        <p:spPr>
          <a:xfrm>
            <a:off x="4848120" y="4179960"/>
            <a:ext cx="6388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 начальника Управления экономики администрации Петропавловск-Камчатского городского округа - начальник отдела инвестиций и мониторинга муниципальных программ Позднякова Евгения Серге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5T22:59:07Z</dcterms:created>
  <dc:creator>Киселева Елена Петровна</dc:creator>
  <dc:description/>
  <dc:language>en-US</dc:language>
  <cp:lastModifiedBy>Пономарёв Евгений Николевич</cp:lastModifiedBy>
  <cp:lastPrinted>2015-12-17T21:55:43Z</cp:lastPrinted>
  <dcterms:modified xsi:type="dcterms:W3CDTF">2015-12-17T21:57:59Z</dcterms:modified>
  <cp:revision>162</cp:revision>
  <dc:subject/>
  <dc:title>Презентация PowerPoint</dc:title>
</cp:coreProperties>
</file>