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3B3-4F4C-48BE-AB73-2874CEF1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D59-7E4A-4B20-B67C-890B267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F6C-FDF5-4218-995D-84473E44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ED5-897A-4E0A-A75C-2645BE8B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0EAD-AC5D-4364-8509-7904DCF7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4F1E-61BC-45FC-9C77-23AC6A25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A730-D9A0-4DC4-A6AB-EEC7E73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130-9BBC-4EAA-8A87-C679E325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E727-96DE-4900-AD78-423FA081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8B17-AAFB-4FDD-BCCC-FE27199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2A6-7E3B-4C1B-AC80-F41AF2C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D0D-96A7-4788-89D0-AFFC5FD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76F5-86A7-4DC3-A29E-0F49123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ABD1-C2DB-4891-B198-2DEB8D8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988-BAE8-4BB9-A07D-3C32F24E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88D5-E8FC-4741-8ABD-BBA08D75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DBE7-F128-4FA3-990A-5D54519B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08A0-8A76-4D73-A7CB-601675D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240B-754A-4FB3-A783-A6C5271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4B9A-34BD-44A1-8F96-735B9FED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F6A2-CCA6-4488-A354-AB0E7DD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389E-AAEA-4669-8CD2-39475FC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F4D-CBDF-43FE-8808-EB841678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101B-51D8-4191-A6D6-C74B9CF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AB8C-DF42-43A1-AFEC-E2CD161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ECFB-FAFB-4D1C-852F-E44F884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B232-762F-4464-AC57-FD74962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DA10-65E3-4051-9E11-736A2570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E55A-879E-4C52-9343-D5C56389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4DFD-3BFC-4583-9121-1E5AD377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8B0F-329C-4176-A54D-6CD7D7FA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1618-7E41-4792-A453-92469421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3F6E-FB0C-482B-A3A6-9EF9CBDA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EC5-B3DD-4E18-AADE-0D52E38E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4159-1EE2-44C0-8033-78564609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C9F6-AF42-4A1A-89BC-EEB8B138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289C5-32D9-43FD-B344-297ECC1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4F11-66E7-4A82-8C8D-9822EE5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DB40-484C-4BB9-8497-576C16E1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2A1E-FA52-4EAE-8769-AB4ACE7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A884-128C-43EC-BEC0-276A578E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9A3E-4B26-469B-8FC6-F9F45A0A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E975-0CF6-4E86-A140-1AA6FFBC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F9C-B8DC-43C3-B031-7E82866B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070-D982-4762-BCE9-3ADAE39C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7CE-6BAD-4D8F-B39B-831DEB2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921-C8CF-4791-988E-0DE0286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CEF-DCE1-440C-B395-40D191F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F133-578C-4F00-89DA-3DD660C4D0B0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E48-9E5F-4735-9270-894EBCAD6CBB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70C-226E-4D6F-B2F5-5FDAFA19B6E8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011-0E9D-4653-A1A5-A7D7B7072462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4720" y="1971720"/>
            <a:ext cx="1068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ого со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дминистрации Петропавловск-Камчатского городского ок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2639880" y="6308640"/>
            <a:ext cx="62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тропавловск-Камча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герб_пнг"/>
          <p:cNvPicPr/>
          <p:nvPr/>
        </p:nvPicPr>
        <p:blipFill>
          <a:blip r:embed="rId1"/>
          <a:stretch/>
        </p:blipFill>
        <p:spPr>
          <a:xfrm>
            <a:off x="363600" y="318960"/>
            <a:ext cx="168264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858960" y="128520"/>
            <a:ext cx="115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й проек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уристический комплекс «Петровская соп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5621400" y="2454120"/>
            <a:ext cx="650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 инженерные и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 подготовка ПСД, бизнес-плана и ТЭ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г.  строительство и ввод в эксплуат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657760" y="1461960"/>
            <a:ext cx="48355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720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ерритории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инвестиц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купаемос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itle 10"/>
          <p:cNvSpPr/>
          <p:nvPr/>
        </p:nvSpPr>
        <p:spPr>
          <a:xfrm>
            <a:off x="341280" y="566640"/>
            <a:ext cx="11506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проекта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дание круглогодичного туристического комплекса, связывающего портовую зону и основную курортную территорию на естественном горном ландш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9" descr=""/>
          <p:cNvPicPr/>
          <p:nvPr/>
        </p:nvPicPr>
        <p:blipFill>
          <a:blip r:embed="rId1"/>
          <a:stretch/>
        </p:blipFill>
        <p:spPr>
          <a:xfrm>
            <a:off x="522360" y="4086360"/>
            <a:ext cx="4886280" cy="2652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0" descr=""/>
          <p:cNvPicPr/>
          <p:nvPr/>
        </p:nvPicPr>
        <p:blipFill>
          <a:blip r:embed="rId2"/>
          <a:stretch/>
        </p:blipFill>
        <p:spPr>
          <a:xfrm>
            <a:off x="522360" y="1352520"/>
            <a:ext cx="4886280" cy="25383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10"/>
          <p:cNvSpPr/>
          <p:nvPr/>
        </p:nvSpPr>
        <p:spPr>
          <a:xfrm>
            <a:off x="6203880" y="3967200"/>
            <a:ext cx="838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иничный комплекс (900 ме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лекательный 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ристический визит и информационный цен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натные дор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ые и закрытые спортивные площ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теджный поселок (шал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нолыжные тр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асс для беговых лы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лодо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ейт-,сноуборд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243000" y="2355840"/>
            <a:ext cx="11121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5: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вопроса о сопровождении инвестиционного проекта по производству искусственных камней в администрации Петропавловск-Камчатского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803920" y="495936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ООО «ЛАМРОК» – Крайников Вадим Владими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5803920" y="5545080"/>
            <a:ext cx="63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хович Виктор Владислав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1"/>
          <a:srcRect l="1841" t="3480" r="5011" b="8607"/>
          <a:stretch/>
        </p:blipFill>
        <p:spPr>
          <a:xfrm>
            <a:off x="7264440" y="4224240"/>
            <a:ext cx="4789440" cy="25369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"/>
          <p:cNvPicPr/>
          <p:nvPr/>
        </p:nvPicPr>
        <p:blipFill>
          <a:blip r:embed="rId2"/>
          <a:stretch/>
        </p:blipFill>
        <p:spPr>
          <a:xfrm>
            <a:off x="295200" y="855720"/>
            <a:ext cx="3890880" cy="27050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204840" y="97920"/>
            <a:ext cx="123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изводство готовых строительных изделий из бетона, цемента и искусственного камн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295200" y="3745080"/>
            <a:ext cx="515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купаемости проекта 3,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дисконтирования – 14,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,985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6,7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табельность проекта – 1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4289400" y="739800"/>
            <a:ext cx="790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крытие производственного комплекса по изготовлению строительных изделий методом гиперпрессования (бордюрные камни, лего-блоки, камни стеновые, камни перегородочные, тротуарные плитки, кирпич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4405320" y="2668680"/>
            <a:ext cx="7240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проекта 4,7 млн. руб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инвестир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онструкция здания – 3 млн. рубл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упка оборудования – 1,7 млн. руб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4289400" y="2116080"/>
            <a:ext cx="72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 проект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ОО «ЛАМРО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0" y="5597640"/>
            <a:ext cx="72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44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проекта предлагается участок на территории частного промышленного парка на ул. Высот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44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392040" y="2095560"/>
            <a:ext cx="118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703" descr=""/>
          <p:cNvPicPr/>
          <p:nvPr/>
        </p:nvPicPr>
        <p:blipFill>
          <a:blip r:embed="rId1"/>
          <a:stretch/>
        </p:blipFill>
        <p:spPr>
          <a:xfrm>
            <a:off x="4576680" y="3324240"/>
            <a:ext cx="30099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279360" y="1568520"/>
            <a:ext cx="1112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«дорожной карты» органов администрации Петропавловск-Камчатского городского округа по определению и внедрению механизма формирования благоприятного инвестиционного климата и развития межрегиональных отношений и международных связей Петропавловск-Камчатского городского округа в приоритетных отраслях экономики за 2015 г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5840280" y="4589640"/>
            <a:ext cx="638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начальника  Управления экономики администрации Петропавловск-Камчатского городского округа- начальник отдела инвестиций и мониторинга муниципальных программ – Позднякова Е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5840280" y="5742000"/>
            <a:ext cx="638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Департамента градостроительства и земельных отношений администрации Петропавловск-Камчатского городского округа – Рубанченко А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с двумя скругленными противолежащими углами 4"/>
          <p:cNvSpPr/>
          <p:nvPr/>
        </p:nvSpPr>
        <p:spPr>
          <a:xfrm>
            <a:off x="928800" y="347760"/>
            <a:ext cx="10015560" cy="944640"/>
          </a:xfrm>
          <a:prstGeom prst="pie">
            <a:avLst/>
          </a:prstGeom>
          <a:solidFill>
            <a:srgbClr val="5fcbef"/>
          </a:solidFill>
          <a:ln cap="rnd" w="19080">
            <a:solidFill>
              <a:srgbClr val="1742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4261"/>
                </a:solidFill>
                <a:latin typeface="Times New Roman"/>
                <a:ea typeface="Times New Roman"/>
              </a:rPr>
              <a:t>«Дорожная карта» органов админист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4261"/>
                </a:solidFill>
                <a:latin typeface="Times New Roman"/>
                <a:ea typeface="Times New Roman"/>
              </a:rPr>
              <a:t>Петропавловск-Камчатского городс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6"/>
          <p:cNvSpPr/>
          <p:nvPr/>
        </p:nvSpPr>
        <p:spPr>
          <a:xfrm>
            <a:off x="2674800" y="1574640"/>
            <a:ext cx="2024280" cy="114624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инвестиционной декла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9"/>
          <p:cNvSpPr/>
          <p:nvPr/>
        </p:nvSpPr>
        <p:spPr>
          <a:xfrm>
            <a:off x="7323120" y="1565280"/>
            <a:ext cx="1900080" cy="11430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ое послание Главы муницип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"/>
          <p:cNvSpPr/>
          <p:nvPr/>
        </p:nvSpPr>
        <p:spPr>
          <a:xfrm>
            <a:off x="4842000" y="1546200"/>
            <a:ext cx="2338200" cy="115416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рганизационной основы для управления деятельностью по улучшению инвестиционного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4"/>
          <p:cNvSpPr/>
          <p:nvPr/>
        </p:nvSpPr>
        <p:spPr>
          <a:xfrm>
            <a:off x="9310680" y="1528920"/>
            <a:ext cx="1916280" cy="117936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основ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42"/>
          <p:cNvSpPr/>
          <p:nvPr/>
        </p:nvSpPr>
        <p:spPr>
          <a:xfrm>
            <a:off x="5729400" y="3079800"/>
            <a:ext cx="2354040" cy="115740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истемы управления земельно-имущественным комплек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43"/>
          <p:cNvSpPr/>
          <p:nvPr/>
        </p:nvSpPr>
        <p:spPr>
          <a:xfrm>
            <a:off x="3435480" y="3051000"/>
            <a:ext cx="2166840" cy="11862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документов, определяющих требования к размещению объектов инфраструктуры и объектов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45"/>
          <p:cNvSpPr/>
          <p:nvPr/>
        </p:nvSpPr>
        <p:spPr>
          <a:xfrm>
            <a:off x="8232840" y="3033720"/>
            <a:ext cx="2104920" cy="119376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ной инфраструктуры для размещения инвестиционн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37"/>
          <p:cNvSpPr/>
          <p:nvPr/>
        </p:nvSpPr>
        <p:spPr>
          <a:xfrm>
            <a:off x="450720" y="1574640"/>
            <a:ext cx="2089440" cy="11178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бщественного Совета по улучшению инвестиционного климата при главе муницип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38"/>
          <p:cNvSpPr/>
          <p:nvPr/>
        </p:nvSpPr>
        <p:spPr>
          <a:xfrm>
            <a:off x="1200240" y="3098880"/>
            <a:ext cx="2082600" cy="113328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программы развития инвестицио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39"/>
          <p:cNvSpPr/>
          <p:nvPr/>
        </p:nvSpPr>
        <p:spPr>
          <a:xfrm>
            <a:off x="8817120" y="4464000"/>
            <a:ext cx="2127240" cy="115272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истемы обучения сотрудников по работе с инвес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40"/>
          <p:cNvSpPr/>
          <p:nvPr/>
        </p:nvSpPr>
        <p:spPr>
          <a:xfrm>
            <a:off x="6145200" y="4491000"/>
            <a:ext cx="2238480" cy="111456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канала прямой связи с инвес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44"/>
          <p:cNvSpPr/>
          <p:nvPr/>
        </p:nvSpPr>
        <p:spPr>
          <a:xfrm>
            <a:off x="779400" y="4500720"/>
            <a:ext cx="2235240" cy="111600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публикация инвестиционного паспорта муницип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6"/>
          <p:cNvSpPr/>
          <p:nvPr/>
        </p:nvSpPr>
        <p:spPr>
          <a:xfrm>
            <a:off x="3457440" y="4495680"/>
            <a:ext cx="2271960" cy="1121040"/>
          </a:xfrm>
          <a:prstGeom prst="roundRect">
            <a:avLst>
              <a:gd name="adj" fmla="val 34444"/>
            </a:avLst>
          </a:prstGeom>
          <a:solidFill>
            <a:srgbClr val="42d0a2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254160" y="2378160"/>
            <a:ext cx="1172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создании промышленного парка по ул. Высотная в Петропавловск-Камчатском городском ок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989680" y="574992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Главы администрации Петропавловск-Камчатского городского округа – Кукиль О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595440" y="46080"/>
            <a:ext cx="1112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й промышленный парк и бизнес-инкубатор по ул. Высотн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1"/>
          <a:srcRect l="24196" t="16143" r="21058" b="3432"/>
          <a:stretch/>
        </p:blipFill>
        <p:spPr>
          <a:xfrm>
            <a:off x="312840" y="866880"/>
            <a:ext cx="5675040" cy="5583240"/>
          </a:xfrm>
          <a:prstGeom prst="rect">
            <a:avLst/>
          </a:prstGeom>
          <a:ln w="0">
            <a:noFill/>
          </a:ln>
        </p:spPr>
      </p:pic>
      <p:sp>
        <p:nvSpPr>
          <p:cNvPr id="236" name="Объект 2"/>
          <p:cNvSpPr/>
          <p:nvPr/>
        </p:nvSpPr>
        <p:spPr>
          <a:xfrm>
            <a:off x="5987880" y="793800"/>
            <a:ext cx="62042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ый пар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земельного участка –2,9 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зданий - 3,2 тысяч кв.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инфраструктуры -104 млн. руб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частных инвестиций - 58 млн. руб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субсидии из федерального бюджет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млн .руб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5987880" y="4300560"/>
            <a:ext cx="508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едвижимого имуще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6156360" y="580536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прорабской (43 м.к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весовой (18,5 м. к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цеха по изготовлению ЖБИ (931,3 м.кв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6156360" y="4565520"/>
            <a:ext cx="609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котельной (506,5 м.к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мельницы (172,5 м.кв.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мехмастерской (490,5 м.к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ание битумохранилища (996,2 м.к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2200320" y="366840"/>
            <a:ext cx="79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ая зона на пересечении ул. Высотная и ул. Стрелк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бъект 2"/>
          <p:cNvSpPr/>
          <p:nvPr/>
        </p:nvSpPr>
        <p:spPr>
          <a:xfrm>
            <a:off x="5987880" y="3049560"/>
            <a:ext cx="62042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инкубато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- 0,9 тысяч кв.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субсидии из федерального бюджет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лн .руб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"/>
          <p:cNvSpPr/>
          <p:nvPr/>
        </p:nvSpPr>
        <p:spPr>
          <a:xfrm>
            <a:off x="301680" y="2305080"/>
            <a:ext cx="1189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кспертной группы по вопросам проведения общественной оценки результатов внедрения успешных прак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6083280" y="5567400"/>
            <a:ext cx="638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начальника  Управления экономики администрации Петропавловск-Камчатского городского округа- начальник отдела инвестиций и мониторинга муниципальных программ – Позднякова Е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2"/>
          <p:cNvSpPr/>
          <p:nvPr/>
        </p:nvSpPr>
        <p:spPr>
          <a:xfrm>
            <a:off x="163440" y="96840"/>
            <a:ext cx="120286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ая групп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щественный совещательный орган, созданный для проведения оценки результатов внедрения на территории Петропавловск-Камчатского городского округа успешных практик по развитию субъектов малого и среднего предпринимательства и снятия административных барьеров в муниципальных образован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гентства стратегических инициатив по продвижению новых проектов к составу экспертной групп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уется  из представителей объединений предпринимателей, членов региональных и местных общественных палат Российской Федерации, лиц, осуществляющих инвестиционную и предпринимательскую деятельность, и иных лиц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 – не менее 5 челове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гламент создания деятельности экспертной группы утверждается организационно-распорядительным актом Агентств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ядок проведения общественной экспертизы результатов внедрения успешной практики устанавливается организационно-распорядительным актом Агент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-208080" y="5116680"/>
            <a:ext cx="1223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мый кандидатуры в состав экспертной группы: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рев Д.В.; Кузьминицкий С.Б.;Просина С.Ф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275760" y="3855960"/>
            <a:ext cx="10213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нимаемые экспертной группой по результатам общественной экспертиз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внедрена полность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внедрена частич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 не внедре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0" y="5659560"/>
            <a:ext cx="118220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признается внедренной на территории городского округа при условии, что по результатам ведомственной оценки, и общественной экспертизы приняты реше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пешная практика внедрена полностью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"/>
          <p:cNvSpPr/>
          <p:nvPr/>
        </p:nvSpPr>
        <p:spPr>
          <a:xfrm>
            <a:off x="243000" y="2367000"/>
            <a:ext cx="1112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4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участии Петропавловск-Камчатского городского округа в «Восточном экономическом форум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5989680" y="574992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Главы администрации Петропавловск-Камчатского городского округа – Кукиль О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4195800" y="154080"/>
            <a:ext cx="7331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ый экономический форум (далее – ВЭФ) учрежден Указом Президента Российской Федерации от 19.05.2015 № 250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312840" y="4390920"/>
            <a:ext cx="7478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Восточного экономического форума администрация Петропавловска-Камчатского городского округа и немецкая компания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Arial"/>
              </a:rPr>
              <a:t>«West-Woods Consulting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или инвестиционное соглашение о реализации инвестиционного проекта «Туристический комплекс «Петровская сопка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7964640" y="4108320"/>
            <a:ext cx="3566880" cy="26719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" descr=""/>
          <p:cNvPicPr/>
          <p:nvPr/>
        </p:nvPicPr>
        <p:blipFill>
          <a:blip r:embed="rId2"/>
          <a:stretch/>
        </p:blipFill>
        <p:spPr>
          <a:xfrm>
            <a:off x="214200" y="6382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4195800" y="800280"/>
            <a:ext cx="756288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ВЭФ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репление связей международного инвестиционного сообщества, российского бизнеса, федеральных, региональных и местных органов вла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есторонняя экспертная оценка экономического потенциала российского Дальнего Востока, а также повышение конкурентоспособности и инвестиционной привлекательности региона, как на российском, так и на международном уровн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новых условий инвестирования и ведения бизнеса: территорий опережающего развития, Свободного порта Владивосток, господдержки перспективных инвестпроект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22:59:07Z</dcterms:created>
  <dc:creator>Киселева Елена Петровна</dc:creator>
  <dc:description/>
  <dc:language>en-US</dc:language>
  <cp:lastModifiedBy>Труфанова Наталья Васильевна</cp:lastModifiedBy>
  <dcterms:modified xsi:type="dcterms:W3CDTF">2015-10-19T21:04:02Z</dcterms:modified>
  <cp:revision>137</cp:revision>
  <dc:subject/>
  <dc:title>Презентация PowerPoint</dc:title>
</cp:coreProperties>
</file>